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6.jpeg" ContentType="image/jpeg"/>
  <Override PartName="/ppt/media/image27.png" ContentType="image/png"/>
  <Override PartName="/ppt/media/image33.jpeg" ContentType="image/jpeg"/>
  <Override PartName="/ppt/media/image10.png" ContentType="image/png"/>
  <Override PartName="/ppt/media/image1.jpeg" ContentType="image/jpeg"/>
  <Override PartName="/ppt/media/image32.png" ContentType="image/png"/>
  <Override PartName="/ppt/media/image7.png" ContentType="image/png"/>
  <Override PartName="/ppt/media/image34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8.wmf" ContentType="image/x-wmf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5.png" ContentType="image/png"/>
  <Override PartName="/ppt/media/image31.wmf" ContentType="image/x-wmf"/>
  <Override PartName="/ppt/media/image28.png" ContentType="image/png"/>
  <Override PartName="/ppt/media/image29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media/image18.jpeg" ContentType="image/jpeg"/>
  <Override PartName="/ppt/media/image20.png" ContentType="image/png"/>
  <Override PartName="/ppt/media/image2.jpeg" ContentType="image/jpeg"/>
  <Override PartName="/ppt/media/image2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AE9B-6F83-42FC-87FB-BA0983644DA9}" type="datetime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6522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E714-F3D0-4141-8E5E-FC26DBF123D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F2B3-6BA4-43A6-9882-610F9B8525CC}" type="slidenum">
              <a:rPr b="0" lang="en-US" sz="1200" spc="-1" strike="noStrike">
                <a:solidFill>
                  <a:srgbClr val="65666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49D7-6513-4AA0-BB4A-E1D3A7AC3DA0}" type="slidenum">
              <a:rPr b="0" lang="en-US" sz="1200" spc="-1" strike="noStrike">
                <a:solidFill>
                  <a:srgbClr val="65666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EEB7-E5D4-4B9F-AE9E-36F9953A1FF9}" type="slidenum">
              <a:rPr b="0" lang="en-US" sz="1200" spc="-1" strike="noStrike">
                <a:solidFill>
                  <a:srgbClr val="65666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A595-4C42-4C46-B01B-9484C1412599}" type="slidenum">
              <a:rPr b="0" lang="en-US" sz="1200" spc="-1" strike="noStrike">
                <a:solidFill>
                  <a:srgbClr val="65666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380880" y="4343400"/>
            <a:ext cx="60962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re details of the bleeding events are shown on this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IMI major non CABG bleed data are shown in the pair of bar graphs on the left, showing the increase in events with prasugr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fe threatening bleeding--another key safety EP ( defined as requiring a 4 unit txn, fluid or inotropic support, surgical intervention, or an ICH) occurred in 0.9 % of clopidogrel and 1.4% of prasugrel subjec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0.5% ARI with prasugrel, associated with a P value of 0.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categories of life threatening bleeding are shown to 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tal bleeding occurred in 0.1% of pts with clopidogrel and was increased to 0.4% of patients with prasugre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0.3% Absolute risk increase associated with a P value of 0.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was no difference in ICH overall in the tri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ccurring in 0.3% of pts in both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f note, in the subgroup of 518 patients with a history of prior stroke or TIA, no I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occurred with clopidogrel while 6 occurred with prasugre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significant difference at the 0.02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7D45-F448-4664-AC69-61FEBE622E31}" type="slidenum">
              <a:rPr b="0" lang="en-US" sz="1200" spc="-1" strike="noStrike">
                <a:solidFill>
                  <a:srgbClr val="65666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533520" y="4343400"/>
            <a:ext cx="579096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 a result of the discordance between efficacy and safety with prasugre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gnficant reductions in events at the cost of a significant increase in bleeding we performed a series of post-hoc exploratory analyses to identify subgroups of patients that did not have a favorable net clinical benefit or who  had net har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group with a prior cerebrovascular event (shown in red) had more primary endpoint events and increased bleeding with prasugrel, resulting in a significant net clinical benefit favoring clopidogrel. Patients without a prior cerebrovascular event, shown in green, had a net clinical benefit favoring prasugrel. The P value for interaction was significant at 0.00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derly patients and those with a low body weight (shown in yellow) tended to have better efficacy but more bleeding with prasugrel, resulting in a net clinical benefit near unity. The younger patients and those with higher body weights (shown in green) had siginificant net clinical benefit favoring prasugrel. The interaction P values for the elderly and low weight patients did not reach statistical significanc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60DC-FF0C-4E80-BB32-AF6E72374FCE}" type="slidenum">
              <a:rPr b="0" lang="nl-NL" sz="1200" spc="-1" strike="noStrike">
                <a:solidFill>
                  <a:srgbClr val="65666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0A90-B37F-46F7-9983-216175F1A41C}" type="slidenum">
              <a:rPr b="0" lang="nl-NL" sz="1200" spc="-1" strike="noStrike">
                <a:solidFill>
                  <a:srgbClr val="65666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UITY compared three different pharmacological approaches in intermediate to high-risk patients with NSTE-ACS planned for invasive strategy and revascularisation whenever possible. These we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ntional anticoagulant plus GP IIb/IIIa inhibi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valirudin plus GP IIb/IIIa inhibi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valirudin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rimary endpoint was a composite of ischemic events and bleeding complications. The composite endpoint was significantly reduced with bivalirudin alone as compared patients treated with any combination of anticoagulants and GP IIb/IIIa inhibitors. This result was achieved thanks to a significant risk reduction for major blee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rary to Oasis-5, the risk reduction for bleeding had no impact on ischemic risk, death, MI or stroke at 30 days or 6 months (recently published data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F9675-277A-4C1D-9E83-6B95AAD4A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83121-E22B-4BCB-8F17-6FD1312F51C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5658F-E177-4D32-9CBE-7E689E8BA7D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7A59-5DD6-4843-A1E8-B1B2523D840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A369F-5B1F-41E2-B070-4206BFDF212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B3CE6-86F2-4398-B55A-C2CF40C401A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DCA8B-BB96-4FDF-8EFC-110BD98FEF6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0B26A-E783-4FB7-B283-FA19BB23A91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4FF2C-0ED1-49F7-8AD5-D4E72E1B9EA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20E32-82B0-4C6E-8961-099C1A4CD38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7A41C-53B8-41B5-B70E-2D0F0F975E5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C563C-E545-4DEC-ADE4-F75723665EC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5F156-C890-4F82-8ECC-4D50DDE4D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4C5CD-8CF5-42ED-8869-7DD3D617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12C14-486C-4E2E-98B6-F32BEF5EA7A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B9421-2553-4571-BA1D-BA2A6CA1206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E5E16-F04A-4605-9EE1-19A6EBC34D2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DD913-63A6-4591-988D-1FD0CB05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C2978-2E91-490B-979D-2599C88A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C9E7C-6E7C-4812-ACC5-7EA4B8D5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FB8C0-EE89-412C-8C1F-A948FD7D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9AE7A-7773-4A13-9DF2-2804701F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13999-8E5E-4DD6-B49D-D8F07909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F8B17-4951-432B-942C-3AE0E0CE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7F019-9603-41D5-9504-718648BE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2F2BF-250C-49D9-8BDC-A686341D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CAA1E-9156-421D-8759-E95CCBC6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ED489-8EC3-4998-ABA7-89C660BA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8DCEF-D946-45F8-8397-49C0721B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B9D78-724D-4193-AFEA-162C4E06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E92A8-66C7-46A4-86C6-213367642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CBDC8-72F4-4D14-B581-2E4261D5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23D71-7324-42FC-B60F-BC1F6D24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2DE27-0282-49EC-B9DB-AAB030DC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4D4D0-479A-481C-B0F8-EEED6F4B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47C33-F7E6-4C9D-B620-522A4E33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29B96-751F-4E89-9D15-FF379DAD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5C7B9-EA83-4730-9756-9B44F6E8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DE416-F9B6-4D03-BD21-B2A41664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4F298-1D7D-45B1-9EAE-170D65BA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DF5AC-1D35-46DA-86C3-AAC86DBF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AE3AE-7ED9-4B3D-926E-6701422D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86680-572D-414A-9334-E3693065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E9F61-F215-4277-BB5D-AD59D88A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CE50A-19D6-4571-9AA9-6EDAF4BB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9AF0C-72CD-4153-ABD9-69DB243D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B2D64-36C8-48A6-9907-D654CE37DD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0FD77-7309-40EF-8EF5-B5F22D0F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1C28F-E36C-49B9-A8CB-3A415B39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6035D-FFCF-4EFB-BF84-97296977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6EBE3-7507-4F37-A84F-9FE37C35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9D52A-4EB4-43B5-9D36-7EF540BC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3C919-4DCF-42BE-AB82-05DC0B00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5059F-556E-4D1E-8059-867F5D4B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EB23F-3EBE-42F5-AC5A-8319B421EB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A6E06-DAE8-4838-811C-E54C9B49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03F0-DB81-48B5-986D-AAFC45082F5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0ED01B-1010-4A3E-BD17-9CCE9D23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F85C9-793B-4F16-B42F-1938FD8B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579F89-E47E-4396-AC63-DC2F26EA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570E44-5858-4273-A1DA-1522466F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706854-85D2-4743-AC76-44BB2981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1A8C10-8470-4718-AD63-F4503EAC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55DE7-EB12-42B8-A95C-5939F84D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74B1F-1949-4D6D-9EA9-735D6390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D6865F-C64A-4246-B876-251F700E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BB6586-53EE-4321-85C5-EB996D8D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98D1-81C5-4D41-AB6E-954140C5709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1545C6-1F64-460B-A50B-B04E4143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3BB9F-0387-4BA5-9203-4257DCEF158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AFFC7-251C-4A2E-B704-79A399296A7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799A1-971D-4970-A3AF-14B3C5F7183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41360" y="884160"/>
            <a:ext cx="82548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4600" y="4222440"/>
            <a:ext cx="82548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600" y="190656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4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600" y="4222440"/>
            <a:ext cx="4028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568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6760" y="190656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4460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568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6760" y="4222440"/>
            <a:ext cx="265788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www.escardio.org/guidelines" TargetMode="External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tAntonius_ziekenhuis_RGB"/>
          <p:cNvPicPr/>
          <p:nvPr/>
        </p:nvPicPr>
        <p:blipFill>
          <a:blip r:embed="rId2"/>
          <a:srcRect l="0" t="0" r="-2854" b="1563"/>
          <a:stretch/>
        </p:blipFill>
        <p:spPr>
          <a:xfrm>
            <a:off x="7662960" y="6313320"/>
            <a:ext cx="1481040" cy="54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6522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1" marL="264960" indent="-2635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2" marL="538200" indent="-27144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3" marL="811080" indent="-27144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4" marL="1076400" indent="-2635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5" marL="1076400" indent="-2635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6" marL="1076400" indent="-2635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83840" y="6588000"/>
            <a:ext cx="12430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f265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Times New Roman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Times New Roman"/>
              </a:rPr>
              <a:t>|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19160" y="6588000"/>
            <a:ext cx="2095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f265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B99A-5253-4DCA-8AD1-5EED4FCFEA65}" type="slidenum">
              <a:rPr b="0" lang="nl-NL" sz="900" spc="-1" strike="noStrike">
                <a:solidFill>
                  <a:srgbClr val="f265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185760" y="255600"/>
            <a:ext cx="8772480" cy="320760"/>
          </a:xfrm>
          <a:prstGeom prst="pie">
            <a:avLst/>
          </a:prstGeom>
          <a:solidFill>
            <a:srgbClr val="f265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29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294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2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2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2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82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2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82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82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82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2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82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82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8294"/>
              </a:solidFill>
              <a:latin typeface="Arial"/>
            </a:endParaRPr>
          </a:p>
        </p:txBody>
      </p:sp>
      <p:pic>
        <p:nvPicPr>
          <p:cNvPr id="363" name="Picture 4" descr="New_ESC_BGV1_cut"/>
          <p:cNvPicPr/>
          <p:nvPr/>
        </p:nvPicPr>
        <p:blipFill>
          <a:blip r:embed="rId2"/>
          <a:stretch/>
        </p:blipFill>
        <p:spPr>
          <a:xfrm>
            <a:off x="0" y="620244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5"/>
          <p:cNvSpPr/>
          <p:nvPr/>
        </p:nvSpPr>
        <p:spPr>
          <a:xfrm>
            <a:off x="76320" y="6276960"/>
            <a:ext cx="8305560" cy="79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ESC Guidelines for the Management of NSTE-ACS </a:t>
            </a:r>
            <a:fld id="{7441FDDD-5E10-4D99-91D0-63AF474FCF14}" type="slidenum">
              <a:rPr b="0" i="1" lang="en-US" sz="2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/103</a:t>
            </a:r>
            <a:endParaRPr b="0" lang="en-US" sz="23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12"/>
          </p:nvPr>
        </p:nvSpPr>
        <p:spPr>
          <a:xfrm>
            <a:off x="6975000" y="6373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BD36-7ECB-46C3-9550-F0DB7D9BC1FD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2"/>
          <a:stretch/>
        </p:blipFill>
        <p:spPr>
          <a:xfrm>
            <a:off x="157320" y="114480"/>
            <a:ext cx="218412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3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1186920" y="1644120"/>
            <a:ext cx="6704280" cy="4321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165240" rIns="165240" tIns="155520" bIns="155520" anchor="ctr" anchorCtr="1">
            <a:normAutofit fontScale="99000"/>
          </a:bodyPr>
          <a:p>
            <a:pPr marL="337680" indent="-337680">
              <a:spcBef>
                <a:spcPts val="1624"/>
              </a:spcBef>
              <a:buClr>
                <a:srgbClr val="e5405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6240">
              <a:spcBef>
                <a:spcPts val="1624"/>
              </a:spcBef>
              <a:buClr>
                <a:srgbClr val="6b6bce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439560" y="685440"/>
            <a:ext cx="8264880" cy="5619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68560" y="151920"/>
            <a:ext cx="6502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c5e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eaec5e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c5e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eaec5e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c5e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eaec5e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c5e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eaec5e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c5e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eaec5e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c5e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eaec5e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c5e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7908840" y="6431040"/>
            <a:ext cx="1220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1644480" y="1279440"/>
            <a:ext cx="16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1509840" y="1630440"/>
            <a:ext cx="1634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50000">
              <a:srgbClr val="0000a0"/>
            </a:gs>
            <a:gs pos="100000">
              <a:srgbClr val="00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1398600" y="1314360"/>
            <a:ext cx="6531120" cy="3638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90000" rIns="45720" tIns="9144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1137"/>
              </a:spcBef>
              <a:buClr>
                <a:srgbClr val="cc0000"/>
              </a:buClr>
              <a:buSzPct val="68000"/>
              <a:buFont typeface="Arial Black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3440" indent="-342360">
              <a:lnSpc>
                <a:spcPct val="95000"/>
              </a:lnSpc>
              <a:spcBef>
                <a:spcPts val="1137"/>
              </a:spcBef>
              <a:buClr>
                <a:srgbClr val="6b6bce"/>
              </a:buClr>
              <a:buSzPct val="68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6160" indent="-229320">
              <a:lnSpc>
                <a:spcPct val="95000"/>
              </a:lnSpc>
              <a:spcBef>
                <a:spcPts val="1137"/>
              </a:spcBef>
              <a:buClr>
                <a:srgbClr val="ffba3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94160" indent="-169920">
              <a:lnSpc>
                <a:spcPct val="95000"/>
              </a:lnSpc>
              <a:spcBef>
                <a:spcPts val="1137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980000" indent="-169560">
              <a:lnSpc>
                <a:spcPct val="95000"/>
              </a:lnSpc>
              <a:spcBef>
                <a:spcPts val="1137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980000" indent="-169560">
              <a:lnSpc>
                <a:spcPct val="95000"/>
              </a:lnSpc>
              <a:spcBef>
                <a:spcPts val="1137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980000" indent="-169560">
              <a:lnSpc>
                <a:spcPct val="95000"/>
              </a:lnSpc>
              <a:spcBef>
                <a:spcPts val="1137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13"/>
          <p:cNvSpPr/>
          <p:nvPr/>
        </p:nvSpPr>
        <p:spPr>
          <a:xfrm>
            <a:off x="0" y="0"/>
            <a:ext cx="9144000" cy="1020600"/>
          </a:xfrm>
          <a:prstGeom prst="rect">
            <a:avLst/>
          </a:prstGeom>
          <a:gradFill rotWithShape="0">
            <a:gsLst>
              <a:gs pos="0">
                <a:srgbClr val="2e2e2e"/>
              </a:gs>
              <a:gs pos="50000">
                <a:srgbClr val="646464">
                  <a:alpha val="81176"/>
                </a:srgbClr>
              </a:gs>
              <a:gs pos="100000">
                <a:srgbClr val="2e2e2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22" name="Line 15"/>
          <p:cNvSpPr/>
          <p:nvPr/>
        </p:nvSpPr>
        <p:spPr>
          <a:xfrm>
            <a:off x="0" y="10382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title"/>
          </p:nvPr>
        </p:nvSpPr>
        <p:spPr>
          <a:xfrm>
            <a:off x="1412640" y="475920"/>
            <a:ext cx="77310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fd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8ffdb"/>
              </a:solidFill>
              <a:latin typeface="Arial"/>
            </a:endParaRPr>
          </a:p>
        </p:txBody>
      </p:sp>
      <p:pic>
        <p:nvPicPr>
          <p:cNvPr id="524" name="Picture 16" descr=""/>
          <p:cNvPicPr/>
          <p:nvPr/>
        </p:nvPicPr>
        <p:blipFill>
          <a:blip r:embed="rId2"/>
          <a:stretch/>
        </p:blipFill>
        <p:spPr>
          <a:xfrm>
            <a:off x="38160" y="63360"/>
            <a:ext cx="1495440" cy="870120"/>
          </a:xfrm>
          <a:prstGeom prst="rect">
            <a:avLst/>
          </a:prstGeom>
          <a:ln w="12600">
            <a:solidFill>
              <a:srgbClr val="777777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25" name="Line 19"/>
          <p:cNvSpPr/>
          <p:nvPr/>
        </p:nvSpPr>
        <p:spPr>
          <a:xfrm>
            <a:off x="0" y="101916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3" name="Picture 3" descr="StAntonius_ziekenhuis_RGB"/>
            <p:cNvPicPr/>
            <p:nvPr/>
          </p:nvPicPr>
          <p:blipFill>
            <a:blip r:embed="rId2"/>
            <a:srcRect l="0" t="0" r="-566" b="0"/>
            <a:stretch/>
          </p:blipFill>
          <p:spPr>
            <a:xfrm>
              <a:off x="6583680" y="5878440"/>
              <a:ext cx="255996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4" descr="mainpage_orange_screen"/>
            <p:cNvPicPr/>
            <p:nvPr/>
          </p:nvPicPr>
          <p:blipFill>
            <a:blip r:embed="rId3"/>
            <a:srcRect l="47" t="1924" r="128" b="29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5" name="Picture 7" descr="santeonlogo-150-pr-voor-powerpoint"/>
          <p:cNvPicPr/>
          <p:nvPr/>
        </p:nvPicPr>
        <p:blipFill>
          <a:blip r:embed="rId4"/>
          <a:stretch/>
        </p:blipFill>
        <p:spPr>
          <a:xfrm>
            <a:off x="0" y="6153120"/>
            <a:ext cx="800280" cy="70488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6522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1" marL="264960" indent="-2635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2" marL="538200" indent="-27144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3" marL="811080" indent="-27144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4" marL="1076400" indent="-2635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5" marL="1076400" indent="-2635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lvl="6" marL="1076400" indent="-2635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0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20840" y="0"/>
            <a:ext cx="7696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324080" y="1600200"/>
            <a:ext cx="73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0"/>
          <p:cNvSpPr/>
          <p:nvPr/>
        </p:nvSpPr>
        <p:spPr>
          <a:xfrm>
            <a:off x="0" y="981000"/>
            <a:ext cx="9144000" cy="3672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643" name="Picture 7" descr="PHRI Logo"/>
          <p:cNvPicPr/>
          <p:nvPr/>
        </p:nvPicPr>
        <p:blipFill>
          <a:blip r:embed="rId2"/>
          <a:srcRect l="0" t="0" r="52964" b="38199"/>
          <a:stretch/>
        </p:blipFill>
        <p:spPr>
          <a:xfrm>
            <a:off x="8070840" y="5783400"/>
            <a:ext cx="1015920" cy="10033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9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448080" cy="40932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E2AE-3277-42B0-9FB0-36FD49588C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A768-69AD-4099-A76C-CCF32B8C9680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3D38-7B66-46DB-96B2-A293DF7C806A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CC42-B17F-4D35-9193-5183CDF128F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20840" y="0"/>
            <a:ext cx="7696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324080" y="1600200"/>
            <a:ext cx="73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2"/>
          <a:srcRect l="4167" t="0" r="53198" b="0"/>
          <a:stretch/>
        </p:blipFill>
        <p:spPr>
          <a:xfrm>
            <a:off x="0" y="0"/>
            <a:ext cx="3898800" cy="1136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03360" y="-360"/>
            <a:ext cx="494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A617-66C4-4C97-BC84-2FBAD8704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6480" y="221760"/>
            <a:ext cx="73310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3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814"/>
              </a:spcAft>
              <a:buClr>
                <a:srgbClr val="d0004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97120" indent="-285840">
              <a:spcAft>
                <a:spcPts val="814"/>
              </a:spcAft>
              <a:buClr>
                <a:srgbClr val="d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419120" indent="-268560">
              <a:spcAft>
                <a:spcPts val="814"/>
              </a:spcAft>
              <a:buClr>
                <a:srgbClr val="d0004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3" marL="1973880" indent="-285840">
              <a:spcAft>
                <a:spcPts val="814"/>
              </a:spcAft>
              <a:buClr>
                <a:srgbClr val="d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4" marL="2487960" indent="-271800">
              <a:spcAft>
                <a:spcPts val="814"/>
              </a:spcAft>
              <a:buClr>
                <a:srgbClr val="d0004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5" marL="2487960" indent="-271800">
              <a:spcAft>
                <a:spcPts val="814"/>
              </a:spcAft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6" marL="2487960" indent="-271800">
              <a:spcAft>
                <a:spcPts val="814"/>
              </a:spcAft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6" name="Picture 5" descr="Module_web_NEW_NEW"/>
          <p:cNvPicPr/>
          <p:nvPr/>
        </p:nvPicPr>
        <p:blipFill>
          <a:blip r:embed="rId3"/>
          <a:stretch/>
        </p:blipFill>
        <p:spPr>
          <a:xfrm>
            <a:off x="157320" y="6289560"/>
            <a:ext cx="2815920" cy="48096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6">
            <a:hlinkClick r:id="rId4"/>
          </p:cNvPr>
          <p:cNvSpPr/>
          <p:nvPr/>
        </p:nvSpPr>
        <p:spPr>
          <a:xfrm>
            <a:off x="412920" y="6347160"/>
            <a:ext cx="2303280" cy="245160"/>
          </a:xfrm>
          <a:custGeom>
            <a:avLst/>
            <a:gdLst>
              <a:gd name="textAreaLeft" fmla="*/ 15840 w 2303280"/>
              <a:gd name="textAreaRight" fmla="*/ 2287440 w 2303280"/>
              <a:gd name="textAreaTop" fmla="*/ 15840 h 245160"/>
              <a:gd name="textAreaBottom" fmla="*/ 229320 h 245160"/>
            </a:gdLst>
            <a:ahLst/>
            <a:rect l="textAreaLeft" t="textAreaTop" r="textAreaRight" b="textAreaBottom"/>
            <a:pathLst>
              <a:path w="202666" h="21600">
                <a:moveTo>
                  <a:pt x="0" y="0"/>
                </a:moveTo>
                <a:lnTo>
                  <a:pt x="202666" y="0"/>
                </a:lnTo>
                <a:lnTo>
                  <a:pt x="202666" y="21600"/>
                </a:lnTo>
                <a:lnTo>
                  <a:pt x="0" y="21600"/>
                </a:lnTo>
                <a:close/>
              </a:path>
              <a:path fill="lightenLess" w="202666" h="21600">
                <a:moveTo>
                  <a:pt x="0" y="0"/>
                </a:moveTo>
                <a:lnTo>
                  <a:pt x="202666" y="0"/>
                </a:lnTo>
                <a:lnTo>
                  <a:pt x="201266" y="1400"/>
                </a:lnTo>
                <a:lnTo>
                  <a:pt x="1400" y="1400"/>
                </a:lnTo>
                <a:close/>
              </a:path>
              <a:path fill="darken" w="202666" h="21600">
                <a:moveTo>
                  <a:pt x="202666" y="0"/>
                </a:moveTo>
                <a:lnTo>
                  <a:pt x="202666" y="21600"/>
                </a:lnTo>
                <a:lnTo>
                  <a:pt x="201266" y="20200"/>
                </a:lnTo>
                <a:lnTo>
                  <a:pt x="201266" y="1400"/>
                </a:lnTo>
                <a:close/>
              </a:path>
              <a:path fill="darkenLess" w="202666" h="21600">
                <a:moveTo>
                  <a:pt x="202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1266" y="20200"/>
                </a:lnTo>
                <a:close/>
              </a:path>
              <a:path fill="lighten" w="202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www.escardio.org/guidelines</a:t>
            </a:r>
            <a:endParaRPr b="0" lang="en-US" sz="14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485640" y="1006200"/>
            <a:ext cx="805824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Aft>
                <a:spcPts val="499"/>
              </a:spcAft>
              <a:buClr>
                <a:srgbClr val="f0ad2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57400">
              <a:spcAft>
                <a:spcPts val="499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9640" indent="-266760">
              <a:spcAft>
                <a:spcPts val="499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270000">
              <a:spcAft>
                <a:spcPts val="499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52520" indent="-270000">
              <a:spcAft>
                <a:spcPts val="499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52520" indent="-270000">
              <a:spcAft>
                <a:spcPts val="499"/>
              </a:spcAft>
              <a:buClr>
                <a:srgbClr val="29292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52520" indent="-270000">
              <a:spcAft>
                <a:spcPts val="499"/>
              </a:spcAft>
              <a:buClr>
                <a:srgbClr val="29292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95000" y="152280"/>
            <a:ext cx="8048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20628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247" name="Picture 96" descr="PLATO_LOGO"/>
          <p:cNvPicPr/>
          <p:nvPr/>
        </p:nvPicPr>
        <p:blipFill>
          <a:blip r:embed="rId2"/>
          <a:stretch/>
        </p:blipFill>
        <p:spPr>
          <a:xfrm>
            <a:off x="7677000" y="6480"/>
            <a:ext cx="1454400" cy="5014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98"/>
          <p:cNvSpPr/>
          <p:nvPr/>
        </p:nvSpPr>
        <p:spPr>
          <a:xfrm>
            <a:off x="7369200" y="450720"/>
            <a:ext cx="15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BG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0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621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04600" y="1600200"/>
            <a:ext cx="773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3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1186920" y="1644120"/>
            <a:ext cx="6704280" cy="4321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165240" rIns="165240" tIns="155520" bIns="155520" anchor="ctr" anchorCtr="1">
            <a:normAutofit fontScale="99000"/>
          </a:bodyPr>
          <a:p>
            <a:pPr marL="337680" indent="-337680">
              <a:spcBef>
                <a:spcPts val="1624"/>
              </a:spcBef>
              <a:buClr>
                <a:srgbClr val="e5405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6240">
              <a:spcBef>
                <a:spcPts val="1624"/>
              </a:spcBef>
              <a:buClr>
                <a:srgbClr val="6b6bce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39560" y="685800"/>
            <a:ext cx="8264880" cy="628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2533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JM ten Berg, St Antonius Hospital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94" name="Rechthoek 3"/>
          <p:cNvSpPr/>
          <p:nvPr/>
        </p:nvSpPr>
        <p:spPr>
          <a:xfrm>
            <a:off x="304920" y="1981080"/>
            <a:ext cx="86868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Elderly ACS patients: a special case? </a:t>
            </a:r>
            <a:endParaRPr b="0" lang="en-US" sz="4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4"/>
          <p:cNvSpPr/>
          <p:nvPr/>
        </p:nvSpPr>
        <p:spPr>
          <a:xfrm>
            <a:off x="689760" y="834120"/>
            <a:ext cx="7764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56667"/>
                </a:solidFill>
                <a:latin typeface="Arial"/>
              </a:rPr>
              <a:t>  </a:t>
            </a:r>
            <a:r>
              <a:rPr b="0" lang="en-US" sz="32400" spc="-1" strike="noStrike">
                <a:solidFill>
                  <a:srgbClr val="656667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656667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</a:t>
            </a:r>
            <a:r>
              <a:rPr b="0" lang="en-US" sz="1600" spc="-1" strike="noStrike">
                <a:solidFill>
                  <a:srgbClr val="656667"/>
                </a:solidFill>
                <a:latin typeface="Arial"/>
              </a:rPr>
              <a:t>&lt;&gt; 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33" name="Picture 5" descr="Slide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Footer Placeholder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41360" y="685800"/>
            <a:ext cx="82548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Independant hazard of major bleed and MI within 30 days and subsequent mortality within 1 year </a:t>
            </a:r>
            <a:br>
              <a:rPr sz="2000"/>
            </a:br>
            <a:r>
              <a:rPr b="1" lang="nl-NL" sz="2000" spc="-1" strike="noStrike">
                <a:solidFill>
                  <a:srgbClr val="656667"/>
                </a:solidFill>
                <a:latin typeface="Arial"/>
              </a:rPr>
              <a:t>Mehran et al, 1742 pts </a:t>
            </a:r>
            <a:endParaRPr b="1" lang="en-US" sz="2000" spc="-1" strike="noStrike">
              <a:solidFill>
                <a:srgbClr val="f26522"/>
              </a:solidFill>
              <a:latin typeface="Arial"/>
            </a:endParaRPr>
          </a:p>
        </p:txBody>
      </p:sp>
      <p:pic>
        <p:nvPicPr>
          <p:cNvPr id="736" name="Picture 4" descr=""/>
          <p:cNvPicPr/>
          <p:nvPr/>
        </p:nvPicPr>
        <p:blipFill>
          <a:blip r:embed="rId1"/>
          <a:srcRect l="24401" t="20477" r="6510" b="27118"/>
          <a:stretch/>
        </p:blipFill>
        <p:spPr>
          <a:xfrm>
            <a:off x="990720" y="2243160"/>
            <a:ext cx="7223040" cy="38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6522"/>
                </a:solidFill>
                <a:latin typeface="Arial"/>
              </a:rPr>
              <a:t>How Might Bleeding Increase Long-Term Mortality?</a:t>
            </a:r>
            <a:endParaRPr b="1" lang="en-US" sz="28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44600" y="2042640"/>
            <a:ext cx="8254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1199"/>
              </a:spcAft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Hemodynamic compromise</a:t>
            </a:r>
            <a:endParaRPr b="1" lang="en-US" sz="32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199"/>
              </a:spcAft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Hyperadrenergic state</a:t>
            </a:r>
            <a:endParaRPr b="1" lang="en-US" sz="32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199"/>
              </a:spcAft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Transfusion-induced microcirculatory disorder, NO depletion, immunologic effects</a:t>
            </a:r>
            <a:endParaRPr b="1" lang="en-US" sz="32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199"/>
              </a:spcAft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Inflammatory response</a:t>
            </a:r>
            <a:endParaRPr b="1" lang="en-US" sz="32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199"/>
              </a:spcAft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Discontinuation of antithrombotics</a:t>
            </a:r>
            <a:endParaRPr b="1" lang="en-US" sz="32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199"/>
              </a:spcAft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39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3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6705720" cy="1165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ba3e"/>
                </a:solidFill>
                <a:latin typeface="Arial"/>
              </a:rPr>
              <a:t>Bleeding (Day 1) and Subsequent Antithrombotic Use</a:t>
            </a:r>
            <a:r>
              <a:rPr b="1" lang="en-GB" sz="2800" spc="-1" strike="noStrike">
                <a:solidFill>
                  <a:srgbClr val="ffba3e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741" name="Text Box 4"/>
          <p:cNvSpPr/>
          <p:nvPr/>
        </p:nvSpPr>
        <p:spPr>
          <a:xfrm>
            <a:off x="1523880" y="2590920"/>
            <a:ext cx="609624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ctr" pos="17096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Med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Bleed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     No bleed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ctr" pos="17096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ASA 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69%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86% 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ctr" pos="17096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thien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50%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51%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ctr" pos="17096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UFH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30%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36%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ctr" pos="17096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LMWH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26%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ctr" pos="17096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GPIIb/IIIa 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8%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42" name="Line 5"/>
          <p:cNvSpPr/>
          <p:nvPr/>
        </p:nvSpPr>
        <p:spPr>
          <a:xfrm flipV="1">
            <a:off x="1523880" y="3078000"/>
            <a:ext cx="5486400" cy="46080"/>
          </a:xfrm>
          <a:prstGeom prst="line">
            <a:avLst/>
          </a:prstGeom>
          <a:ln w="28440">
            <a:solidFill>
              <a:srgbClr val="ffb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43" name="Rectangle 6"/>
          <p:cNvSpPr/>
          <p:nvPr/>
        </p:nvSpPr>
        <p:spPr>
          <a:xfrm>
            <a:off x="2895480" y="1600200"/>
            <a:ext cx="3810240" cy="360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ba3e"/>
                </a:solidFill>
                <a:latin typeface="Arial"/>
              </a:rPr>
              <a:t>Use of Meds After Bleed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44" name="Text Box 7"/>
          <p:cNvSpPr/>
          <p:nvPr/>
        </p:nvSpPr>
        <p:spPr>
          <a:xfrm>
            <a:off x="5965560" y="614052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56667"/>
                </a:solidFill>
                <a:latin typeface="Arial"/>
              </a:rPr>
              <a:t>Spencer Circ 2007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304920" y="228600"/>
          <a:ext cx="165240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6524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380880" y="762120"/>
            <a:ext cx="8264520" cy="3511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4aaa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hat can be done to reduce bleeding?</a:t>
            </a:r>
            <a:endParaRPr b="0" lang="en-US" sz="4400" spc="-1" strike="noStrike">
              <a:solidFill>
                <a:srgbClr val="656667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667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2d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2222"/>
                </a:solidFill>
                <a:latin typeface="Arial"/>
                <a:ea typeface="ＭＳ Ｐゴシック"/>
              </a:rPr>
              <a:t> </a:t>
            </a:r>
            <a:r>
              <a:rPr b="0" lang="en-US" sz="3600" spc="-1" strike="noStrike">
                <a:solidFill>
                  <a:srgbClr val="2d2222"/>
                </a:solidFill>
                <a:latin typeface="Arial"/>
                <a:ea typeface="ＭＳ Ｐゴシック"/>
              </a:rPr>
              <a:t>When invasive use radial</a:t>
            </a:r>
            <a:endParaRPr b="0" lang="en-US" sz="3600" spc="-1" strike="noStrike">
              <a:solidFill>
                <a:srgbClr val="656667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2d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2222"/>
                </a:solidFill>
                <a:latin typeface="Arial"/>
                <a:ea typeface="ＭＳ Ｐゴシック"/>
              </a:rPr>
              <a:t> </a:t>
            </a:r>
            <a:r>
              <a:rPr b="0" lang="en-US" sz="3600" spc="-1" strike="noStrike">
                <a:solidFill>
                  <a:srgbClr val="2d2222"/>
                </a:solidFill>
                <a:latin typeface="Arial"/>
                <a:ea typeface="ＭＳ Ｐゴシック"/>
              </a:rPr>
              <a:t>Avoid overdose</a:t>
            </a:r>
            <a:endParaRPr b="0" lang="en-US" sz="36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49" name="Afbeelding 7" descr="Unknownx.jpg"/>
          <p:cNvPicPr/>
          <p:nvPr/>
        </p:nvPicPr>
        <p:blipFill>
          <a:blip r:embed="rId1"/>
          <a:stretch/>
        </p:blipFill>
        <p:spPr>
          <a:xfrm>
            <a:off x="6819840" y="2819520"/>
            <a:ext cx="23241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3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93880" y="279360"/>
            <a:ext cx="7354800" cy="1098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ba3e"/>
                </a:solidFill>
                <a:latin typeface="Arial"/>
              </a:rPr>
              <a:t>Avoid Excessive Dosing of Anticoagulants</a:t>
            </a: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pic>
        <p:nvPicPr>
          <p:cNvPr id="751" name="Object 2" descr=""/>
          <p:cNvPicPr/>
          <p:nvPr/>
        </p:nvPicPr>
        <p:blipFill>
          <a:blip r:embed="rId1"/>
          <a:stretch/>
        </p:blipFill>
        <p:spPr>
          <a:xfrm>
            <a:off x="157320" y="1203480"/>
            <a:ext cx="8493120" cy="498132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4" descr="Crusade Logo Shield"/>
          <p:cNvPicPr/>
          <p:nvPr/>
        </p:nvPicPr>
        <p:blipFill>
          <a:blip r:embed="rId2"/>
          <a:stretch/>
        </p:blipFill>
        <p:spPr>
          <a:xfrm>
            <a:off x="0" y="0"/>
            <a:ext cx="990720" cy="987480"/>
          </a:xfrm>
          <a:prstGeom prst="rect">
            <a:avLst/>
          </a:prstGeom>
          <a:ln w="0">
            <a:noFill/>
          </a:ln>
        </p:spPr>
      </p:pic>
      <p:sp>
        <p:nvSpPr>
          <p:cNvPr id="753" name="Text Box 5"/>
          <p:cNvSpPr/>
          <p:nvPr/>
        </p:nvSpPr>
        <p:spPr>
          <a:xfrm>
            <a:off x="304200" y="6232680"/>
            <a:ext cx="42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56667"/>
                </a:solidFill>
                <a:latin typeface="Arial"/>
              </a:rPr>
              <a:t>-- Alexander JAMA 2005;294:3108-3116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54" name="Text Box 6"/>
          <p:cNvSpPr/>
          <p:nvPr/>
        </p:nvSpPr>
        <p:spPr>
          <a:xfrm>
            <a:off x="2527200" y="1600200"/>
            <a:ext cx="2608560" cy="337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56667"/>
                </a:solidFill>
                <a:latin typeface="Arial"/>
              </a:rPr>
              <a:t>42% of patients got excess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55" name="Tekstvak 7"/>
          <p:cNvSpPr/>
          <p:nvPr/>
        </p:nvSpPr>
        <p:spPr>
          <a:xfrm>
            <a:off x="6106320" y="525780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56667"/>
                </a:solidFill>
                <a:latin typeface="Arial"/>
              </a:rPr>
              <a:t>&lt;65     &gt;65     &gt;75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Case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44600" y="1523520"/>
            <a:ext cx="8254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656667"/>
                </a:solidFill>
                <a:latin typeface="Arial"/>
              </a:rPr>
              <a:t>A 78-year-old woman presents with non-ST elevation MI. Physical examination and lab tests reveal the following: hematocrit, 35%; creatinine clearance, 55 mL/min; heart rate, 90 beats per minute; blood pressure 100/60 mm Hg, 74 kg. She has type 2 diabetes but no vascular history or previous heart failure.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656667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Q1: how do you estimate her bleeding risk according to ESC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guidelines?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a. GRACE risk score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b. TIMI bleeding risk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c. CRUSADE score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Q2: which of her characteristics define the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bleeding risk?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a. Age, Hct, GFR, blood pressure, pulse, DM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b. Hct, GFR, blood pressure, pulse, DM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c. GFR, blood pressure, pulse, DM 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60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444600" y="190656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Q3: what is her estimated bleeding risk in %?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a. 2%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b. 30%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656667"/>
                </a:solidFill>
                <a:latin typeface="Arial"/>
              </a:rPr>
              <a:t>c. 15%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63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CRUSADE case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65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66" name="Tijdelijke aanduiding voor inhoud 6" descr="Schermafbeelding 2013-04-16 om 21.28.46.png"/>
          <p:cNvPicPr/>
          <p:nvPr/>
        </p:nvPicPr>
        <p:blipFill>
          <a:blip r:embed="rId1"/>
          <a:stretch/>
        </p:blipFill>
        <p:spPr>
          <a:xfrm>
            <a:off x="609480" y="1432080"/>
            <a:ext cx="79502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Disclosures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696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2d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d2222"/>
                </a:solidFill>
                <a:uFillTx/>
                <a:latin typeface="Arial"/>
              </a:rPr>
              <a:t>JM ten Berg reported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22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222"/>
                </a:solidFill>
                <a:latin typeface="Arial"/>
              </a:rPr>
              <a:t>Speakers fee and consultancy: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22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d222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d2222"/>
                </a:solidFill>
                <a:latin typeface="Arial"/>
              </a:rPr>
              <a:t>AstraZenica, Eli Lilly / Daiichi Sankyo, MSD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22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d2222"/>
                </a:solidFill>
                <a:latin typeface="Arial"/>
              </a:rPr>
              <a:t>Accumetrics </a:t>
            </a:r>
            <a:r>
              <a:rPr b="1" lang="nl-NL" sz="2800" spc="-1" strike="noStrike">
                <a:solidFill>
                  <a:srgbClr val="2d222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Tijdelijke aanduiding voor inhoud 4" descr="Schermafbeelding 2013-04-18 om 21.42.25.png"/>
          <p:cNvPicPr/>
          <p:nvPr/>
        </p:nvPicPr>
        <p:blipFill>
          <a:blip r:embed="rId1"/>
          <a:stretch/>
        </p:blipFill>
        <p:spPr>
          <a:xfrm>
            <a:off x="888840" y="838080"/>
            <a:ext cx="7417080" cy="3353040"/>
          </a:xfrm>
          <a:prstGeom prst="rect">
            <a:avLst/>
          </a:prstGeom>
          <a:ln w="0">
            <a:noFill/>
          </a:ln>
        </p:spPr>
      </p:pic>
      <p:sp>
        <p:nvSpPr>
          <p:cNvPr id="768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69" name="Tekstvak 5"/>
          <p:cNvSpPr/>
          <p:nvPr/>
        </p:nvSpPr>
        <p:spPr>
          <a:xfrm>
            <a:off x="838080" y="4495680"/>
            <a:ext cx="76201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65666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656667"/>
                </a:solidFill>
                <a:latin typeface="Arial"/>
              </a:rPr>
              <a:t>In the CRUSADE bleeding risk score, age is no independent predictor after covariate adjustment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5666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656667"/>
                </a:solidFill>
                <a:latin typeface="Arial"/>
              </a:rPr>
              <a:t>It highlights the importance of anemia and renal failure, which are more common in elderly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5666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656667"/>
                </a:solidFill>
                <a:latin typeface="Arial"/>
              </a:rPr>
              <a:t>On a scale from 1-100, Hct 35% adds 8 points to the score, while creatine clearance 55 ml/min is associated with 28 points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Case II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71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An 80-year-old diabetic woman presents with NONSTEMI; blood pressure 130/70, pulse 80/min, weight 55 kilo’s, her calculated glomerular filtration rate is 40 mL/min. How should the antithrombotic therapy be managed in this patient (assuming no other contraindications)?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Q. Aspirin leads to bleeding thus in elderly: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a. No aspirin, only thienopyridine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b. No loading dose, start 75 mg per day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c. Loading dose of 300 mg, followed by low dose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73" name="Afbeelding 5" descr="images4.jpg"/>
          <p:cNvPicPr/>
          <p:nvPr/>
        </p:nvPicPr>
        <p:blipFill>
          <a:blip r:embed="rId1"/>
          <a:stretch/>
        </p:blipFill>
        <p:spPr>
          <a:xfrm>
            <a:off x="6400800" y="47242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ASPIRIN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04920" y="1523880"/>
            <a:ext cx="8254800" cy="31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240120" indent="-2401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56667"/>
                </a:solidFill>
                <a:latin typeface="Arial"/>
              </a:rPr>
              <a:t>Recent registry data demonstrate that a loading dose of ≥ 300 mg was safe and not associated with an increase in bleeding or transfusion among 791 patients with acute MI ≥ 75 years old, some of whom received fibrinolytics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240120" indent="-2401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Large databases (Medicare) demonstrate a similar reduction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240120" indent="-24012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in mortality following MI in patients over 65 yrs of age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240120" indent="-2401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ACC/AHA and ESC guidelines support initial use of loading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240120" indent="-24012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dose followed by low dose aspirin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240120" indent="-24012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Several studies have demonstrated in increase in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240120" indent="-24012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bleeding risk (most GI, intracranial uncommon);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240120" indent="-24012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however this risk, although minimal, increases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240120" indent="-24012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56667"/>
                </a:solidFill>
                <a:latin typeface="Arial"/>
              </a:rPr>
              <a:t>in the elderly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240120" indent="-24012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76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77" name="Afbeelding 5" descr="images5.jpg"/>
          <p:cNvPicPr/>
          <p:nvPr/>
        </p:nvPicPr>
        <p:blipFill>
          <a:blip r:embed="rId1"/>
          <a:stretch/>
        </p:blipFill>
        <p:spPr>
          <a:xfrm>
            <a:off x="6858000" y="5029200"/>
            <a:ext cx="2286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6522"/>
                </a:solidFill>
                <a:latin typeface="Arial"/>
              </a:rPr>
              <a:t>Case II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79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An 80-year-old diabetic woman presents with NONSTEMI; blood pressure 130/70, pulse 80/min, weight 55 kilo’s, her calculated glomerular filtration rate is 40 mL/min. How should the antithrombotic therapy be managed in this patient (assuming no other contraindications and an invasive approach) ?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Q. Clopidogrel, Prasugrel, Ticagrelor added?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65666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If treated with clopidogrel 150 mg/day 1 yr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65666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If treated with Ticagrelor half dose/d 1 yr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65666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If treated with Prasugrel 5 mg/d 1 yr  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81" name="Afbeelding 5" descr="images4.jpg"/>
          <p:cNvPicPr/>
          <p:nvPr/>
        </p:nvPicPr>
        <p:blipFill>
          <a:blip r:embed="rId1"/>
          <a:stretch/>
        </p:blipFill>
        <p:spPr>
          <a:xfrm>
            <a:off x="6400800" y="47242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Calibri"/>
              </a:rPr>
              <a:t>CKD and use of Prasugrel or Ticagrel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TRITON the reduction in the primary endpoint ( CV death, non-fatal MI, or non fatal stroke) with prasugrel compared to clopidogrel was independent of the presence of CK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PLATO, in 3237 patients with CKD (creatinine clearance &lt;60 ml/L) ticagrelor reduced the primary endpoint (cardiovascular death, myocardial infarction, stroke) to 17.3% from 22.0% (HR 0.77, 95% CI0.65-0.90). This reduction was greater than that observed in patients with normal renal function (7.9% versus 8.9%, HR 0.90, 95% CI: 0.79-1.02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4" name="Afbeelding 4" descr="images4.jpg"/>
          <p:cNvPicPr/>
          <p:nvPr/>
        </p:nvPicPr>
        <p:blipFill>
          <a:blip r:embed="rId1"/>
          <a:stretch/>
        </p:blipFill>
        <p:spPr>
          <a:xfrm>
            <a:off x="6400800" y="4876920"/>
            <a:ext cx="2743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14"/>
          <p:cNvSpPr/>
          <p:nvPr/>
        </p:nvSpPr>
        <p:spPr>
          <a:xfrm>
            <a:off x="843120" y="1409760"/>
            <a:ext cx="7937280" cy="3556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graphicFrame>
        <p:nvGraphicFramePr>
          <p:cNvPr id="786" name="Object 3"/>
          <p:cNvGraphicFramePr/>
          <p:nvPr/>
        </p:nvGraphicFramePr>
        <p:xfrm>
          <a:off x="353880" y="946080"/>
          <a:ext cx="86727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946080"/>
                    <a:ext cx="86727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203360" y="-360"/>
            <a:ext cx="49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leeding Events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afety Cohort</a:t>
            </a:r>
            <a:br>
              <a:rPr sz="3200"/>
            </a:b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(N=13,457)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 rot="16200000">
            <a:off x="-960120" y="2976480"/>
            <a:ext cx="24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Events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157320" y="5664240"/>
            <a:ext cx="291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RD 0.6%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HR 1.32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=0.03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NNH=167  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1" name="Rectangle 10"/>
          <p:cNvSpPr/>
          <p:nvPr/>
        </p:nvSpPr>
        <p:spPr>
          <a:xfrm>
            <a:off x="878040" y="1595520"/>
            <a:ext cx="21564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2" name="Rectangle 11"/>
          <p:cNvSpPr/>
          <p:nvPr/>
        </p:nvSpPr>
        <p:spPr>
          <a:xfrm>
            <a:off x="878040" y="1913040"/>
            <a:ext cx="215640" cy="203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3" name="Text Box 12"/>
          <p:cNvSpPr/>
          <p:nvPr/>
        </p:nvSpPr>
        <p:spPr>
          <a:xfrm>
            <a:off x="858960" y="151596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Clopidogrel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4" name="Text Box 13"/>
          <p:cNvSpPr/>
          <p:nvPr/>
        </p:nvSpPr>
        <p:spPr>
          <a:xfrm>
            <a:off x="884160" y="183672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asugrel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5" name="Line 16"/>
          <p:cNvSpPr/>
          <p:nvPr/>
        </p:nvSpPr>
        <p:spPr>
          <a:xfrm flipV="1">
            <a:off x="2417760" y="1434600"/>
            <a:ext cx="0" cy="361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6" name="Line 17"/>
          <p:cNvSpPr/>
          <p:nvPr/>
        </p:nvSpPr>
        <p:spPr>
          <a:xfrm flipV="1">
            <a:off x="4005360" y="1434600"/>
            <a:ext cx="0" cy="361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7" name="Text Box 21"/>
          <p:cNvSpPr/>
          <p:nvPr/>
        </p:nvSpPr>
        <p:spPr>
          <a:xfrm>
            <a:off x="1773360" y="5664240"/>
            <a:ext cx="291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RD 0.5%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HR 1.52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=0.01</a:t>
            </a:r>
            <a:br>
              <a:rPr sz="1600"/>
            </a:b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8" name="Text Box 22"/>
          <p:cNvSpPr/>
          <p:nvPr/>
        </p:nvSpPr>
        <p:spPr>
          <a:xfrm>
            <a:off x="3467160" y="5664240"/>
            <a:ext cx="29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RD 0.2%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=0.23</a:t>
            </a:r>
            <a:br>
              <a:rPr sz="1600"/>
            </a:b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99" name="Text Box 23"/>
          <p:cNvSpPr/>
          <p:nvPr/>
        </p:nvSpPr>
        <p:spPr>
          <a:xfrm>
            <a:off x="6585120" y="5664240"/>
            <a:ext cx="29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RD 0%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=0.74</a:t>
            </a:r>
            <a:br>
              <a:rPr sz="1600"/>
            </a:b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00" name="Text Box 24"/>
          <p:cNvSpPr/>
          <p:nvPr/>
        </p:nvSpPr>
        <p:spPr>
          <a:xfrm>
            <a:off x="4978440" y="5664240"/>
            <a:ext cx="29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RD 0.3%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=0.002</a:t>
            </a:r>
            <a:br>
              <a:rPr sz="1600"/>
            </a:b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01" name="Text Box 25"/>
          <p:cNvSpPr/>
          <p:nvPr/>
        </p:nvSpPr>
        <p:spPr>
          <a:xfrm>
            <a:off x="6527880" y="1441440"/>
            <a:ext cx="29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CH in Pts w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or Stroke/TIA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N=518)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02" name="Line 17"/>
          <p:cNvSpPr/>
          <p:nvPr/>
        </p:nvSpPr>
        <p:spPr>
          <a:xfrm flipV="1">
            <a:off x="5591160" y="1407600"/>
            <a:ext cx="0" cy="3619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03" name="Line 17"/>
          <p:cNvSpPr/>
          <p:nvPr/>
        </p:nvSpPr>
        <p:spPr>
          <a:xfrm flipV="1">
            <a:off x="7165800" y="1407600"/>
            <a:ext cx="0" cy="3619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04" name="Text Box 25"/>
          <p:cNvSpPr/>
          <p:nvPr/>
        </p:nvSpPr>
        <p:spPr>
          <a:xfrm>
            <a:off x="7337520" y="228132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Clop 0 (0)  %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ras 6 (2.3)%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(P=0.02)</a:t>
            </a:r>
            <a:br>
              <a:rPr sz="1600"/>
            </a:b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203360" y="28080"/>
            <a:ext cx="49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Net Clinical Benefit</a:t>
            </a:r>
            <a:br>
              <a:rPr sz="2600"/>
            </a:b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Bleeding Risk Subgroups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820800" y="1682640"/>
            <a:ext cx="11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07" name="Line 4"/>
          <p:cNvSpPr/>
          <p:nvPr/>
        </p:nvSpPr>
        <p:spPr>
          <a:xfrm flipV="1">
            <a:off x="1949400" y="1828800"/>
            <a:ext cx="1800" cy="4178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08" name="Line 5"/>
          <p:cNvSpPr/>
          <p:nvPr/>
        </p:nvSpPr>
        <p:spPr>
          <a:xfrm flipV="1">
            <a:off x="4680000" y="1828800"/>
            <a:ext cx="1440" cy="417816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09" name="Line 6"/>
          <p:cNvSpPr/>
          <p:nvPr/>
        </p:nvSpPr>
        <p:spPr>
          <a:xfrm flipV="1">
            <a:off x="1949400" y="6006960"/>
            <a:ext cx="180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0" name="Line 7"/>
          <p:cNvSpPr/>
          <p:nvPr/>
        </p:nvSpPr>
        <p:spPr>
          <a:xfrm flipV="1">
            <a:off x="2660760" y="6006960"/>
            <a:ext cx="1440" cy="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1" name="Line 8"/>
          <p:cNvSpPr/>
          <p:nvPr/>
        </p:nvSpPr>
        <p:spPr>
          <a:xfrm flipV="1">
            <a:off x="3270240" y="6006960"/>
            <a:ext cx="1440" cy="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2" name="Line 9"/>
          <p:cNvSpPr/>
          <p:nvPr/>
        </p:nvSpPr>
        <p:spPr>
          <a:xfrm flipV="1">
            <a:off x="3803760" y="6006960"/>
            <a:ext cx="1440" cy="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3" name="Line 10"/>
          <p:cNvSpPr/>
          <p:nvPr/>
        </p:nvSpPr>
        <p:spPr>
          <a:xfrm flipV="1">
            <a:off x="4260960" y="6006960"/>
            <a:ext cx="1440" cy="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4" name="Line 11"/>
          <p:cNvSpPr/>
          <p:nvPr/>
        </p:nvSpPr>
        <p:spPr>
          <a:xfrm flipV="1">
            <a:off x="4680000" y="6006960"/>
            <a:ext cx="144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5" name="Line 12"/>
          <p:cNvSpPr/>
          <p:nvPr/>
        </p:nvSpPr>
        <p:spPr>
          <a:xfrm flipV="1">
            <a:off x="7410600" y="6006960"/>
            <a:ext cx="144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6" name="Line 13"/>
          <p:cNvSpPr/>
          <p:nvPr/>
        </p:nvSpPr>
        <p:spPr>
          <a:xfrm flipV="1">
            <a:off x="1949400" y="6006600"/>
            <a:ext cx="1800" cy="12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7" name="Line 14"/>
          <p:cNvSpPr/>
          <p:nvPr/>
        </p:nvSpPr>
        <p:spPr>
          <a:xfrm flipV="1">
            <a:off x="4680000" y="6006600"/>
            <a:ext cx="1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8" name="Line 15"/>
          <p:cNvSpPr/>
          <p:nvPr/>
        </p:nvSpPr>
        <p:spPr>
          <a:xfrm flipV="1">
            <a:off x="7410600" y="6006600"/>
            <a:ext cx="1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19" name="Line 16"/>
          <p:cNvSpPr/>
          <p:nvPr/>
        </p:nvSpPr>
        <p:spPr>
          <a:xfrm flipV="1">
            <a:off x="1949400" y="1828800"/>
            <a:ext cx="1800" cy="4178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0" name="Line 17"/>
          <p:cNvSpPr/>
          <p:nvPr/>
        </p:nvSpPr>
        <p:spPr>
          <a:xfrm>
            <a:off x="1949400" y="6006960"/>
            <a:ext cx="54612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1" name="Line 18"/>
          <p:cNvSpPr/>
          <p:nvPr/>
        </p:nvSpPr>
        <p:spPr>
          <a:xfrm flipH="1">
            <a:off x="3753000" y="5803920"/>
            <a:ext cx="723600" cy="1440"/>
          </a:xfrm>
          <a:prstGeom prst="line">
            <a:avLst/>
          </a:prstGeom>
          <a:ln w="12600">
            <a:solidFill>
              <a:srgbClr val="ff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2" name="Line 19"/>
          <p:cNvSpPr/>
          <p:nvPr/>
        </p:nvSpPr>
        <p:spPr>
          <a:xfrm flipH="1">
            <a:off x="3701520" y="5003640"/>
            <a:ext cx="685800" cy="18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3" name="Line 20"/>
          <p:cNvSpPr/>
          <p:nvPr/>
        </p:nvSpPr>
        <p:spPr>
          <a:xfrm flipH="1">
            <a:off x="3219480" y="4508640"/>
            <a:ext cx="3137040" cy="1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4" name="Line 21"/>
          <p:cNvSpPr/>
          <p:nvPr/>
        </p:nvSpPr>
        <p:spPr>
          <a:xfrm flipH="1">
            <a:off x="3549600" y="3770280"/>
            <a:ext cx="889200" cy="18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5" name="Line 22"/>
          <p:cNvSpPr/>
          <p:nvPr/>
        </p:nvSpPr>
        <p:spPr>
          <a:xfrm flipH="1">
            <a:off x="3841560" y="3262320"/>
            <a:ext cx="1587240" cy="1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6" name="Line 23"/>
          <p:cNvSpPr/>
          <p:nvPr/>
        </p:nvSpPr>
        <p:spPr>
          <a:xfrm flipH="1">
            <a:off x="3600000" y="2324160"/>
            <a:ext cx="787320" cy="1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7" name="Line 24"/>
          <p:cNvSpPr/>
          <p:nvPr/>
        </p:nvSpPr>
        <p:spPr>
          <a:xfrm flipH="1">
            <a:off x="4755960" y="1828800"/>
            <a:ext cx="3238200" cy="1440"/>
          </a:xfrm>
          <a:prstGeom prst="line">
            <a:avLst/>
          </a:prstGeom>
          <a:ln w="12600">
            <a:solidFill>
              <a:srgbClr val="ff3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8" name="Rectangle 25"/>
          <p:cNvSpPr/>
          <p:nvPr/>
        </p:nvSpPr>
        <p:spPr>
          <a:xfrm>
            <a:off x="4070520" y="5753160"/>
            <a:ext cx="126720" cy="127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29" name="Rectangle 26"/>
          <p:cNvSpPr/>
          <p:nvPr/>
        </p:nvSpPr>
        <p:spPr>
          <a:xfrm>
            <a:off x="4019400" y="4940280"/>
            <a:ext cx="139680" cy="127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0" name="Rectangle 27"/>
          <p:cNvSpPr/>
          <p:nvPr/>
        </p:nvSpPr>
        <p:spPr>
          <a:xfrm>
            <a:off x="4730760" y="4444920"/>
            <a:ext cx="127080" cy="127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1" name="Rectangle 28"/>
          <p:cNvSpPr/>
          <p:nvPr/>
        </p:nvSpPr>
        <p:spPr>
          <a:xfrm>
            <a:off x="4578480" y="3211560"/>
            <a:ext cx="126720" cy="127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2" name="Rectangle 29"/>
          <p:cNvSpPr/>
          <p:nvPr/>
        </p:nvSpPr>
        <p:spPr>
          <a:xfrm>
            <a:off x="3930480" y="2273400"/>
            <a:ext cx="127080" cy="127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3" name="Rectangle 30"/>
          <p:cNvSpPr/>
          <p:nvPr/>
        </p:nvSpPr>
        <p:spPr>
          <a:xfrm>
            <a:off x="6318360" y="1765440"/>
            <a:ext cx="126720" cy="139680"/>
          </a:xfrm>
          <a:prstGeom prst="rect">
            <a:avLst/>
          </a:prstGeom>
          <a:solidFill>
            <a:srgbClr val="ff3b0a"/>
          </a:solidFill>
          <a:ln w="12600">
            <a:solidFill>
              <a:srgbClr val="ff3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4" name="Rectangle 31"/>
          <p:cNvSpPr/>
          <p:nvPr/>
        </p:nvSpPr>
        <p:spPr>
          <a:xfrm>
            <a:off x="1609200" y="566568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VERALL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5" name="Rectangle 32"/>
          <p:cNvSpPr/>
          <p:nvPr/>
        </p:nvSpPr>
        <p:spPr>
          <a:xfrm>
            <a:off x="1661400" y="4896000"/>
            <a:ext cx="8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=60 kg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6" name="Rectangle 33"/>
          <p:cNvSpPr/>
          <p:nvPr/>
        </p:nvSpPr>
        <p:spPr>
          <a:xfrm>
            <a:off x="1734480" y="4400640"/>
            <a:ext cx="7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 60 kg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7" name="Rectangle 34"/>
          <p:cNvSpPr/>
          <p:nvPr/>
        </p:nvSpPr>
        <p:spPr>
          <a:xfrm>
            <a:off x="2064960" y="3662280"/>
            <a:ext cx="45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 75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8" name="Rectangle 35"/>
          <p:cNvSpPr/>
          <p:nvPr/>
        </p:nvSpPr>
        <p:spPr>
          <a:xfrm>
            <a:off x="1991880" y="3154320"/>
            <a:ext cx="52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=75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39" name="Rectangle 36"/>
          <p:cNvSpPr/>
          <p:nvPr/>
        </p:nvSpPr>
        <p:spPr>
          <a:xfrm>
            <a:off x="2214360" y="221616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40" name="Rectangle 37"/>
          <p:cNvSpPr/>
          <p:nvPr/>
        </p:nvSpPr>
        <p:spPr>
          <a:xfrm>
            <a:off x="2106720" y="1720800"/>
            <a:ext cx="40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41" name="Rectangle 38"/>
          <p:cNvSpPr/>
          <p:nvPr/>
        </p:nvSpPr>
        <p:spPr>
          <a:xfrm>
            <a:off x="1854360" y="61657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42" name="Rectangle 39"/>
          <p:cNvSpPr/>
          <p:nvPr/>
        </p:nvSpPr>
        <p:spPr>
          <a:xfrm>
            <a:off x="4629240" y="6165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43" name="Rectangle 40"/>
          <p:cNvSpPr/>
          <p:nvPr/>
        </p:nvSpPr>
        <p:spPr>
          <a:xfrm>
            <a:off x="7416720" y="6165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44" name="Rectangle 41"/>
          <p:cNvSpPr/>
          <p:nvPr/>
        </p:nvSpPr>
        <p:spPr>
          <a:xfrm>
            <a:off x="359280" y="1890720"/>
            <a:ext cx="1335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ior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Stroke / TIA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45" name="Rectangle 42"/>
          <p:cNvSpPr/>
          <p:nvPr/>
        </p:nvSpPr>
        <p:spPr>
          <a:xfrm>
            <a:off x="811080" y="33559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46" name="Rectangle 43"/>
          <p:cNvSpPr/>
          <p:nvPr/>
        </p:nvSpPr>
        <p:spPr>
          <a:xfrm>
            <a:off x="808920" y="454356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gt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47" name="Rectangle 44"/>
          <p:cNvSpPr/>
          <p:nvPr/>
        </p:nvSpPr>
        <p:spPr>
          <a:xfrm>
            <a:off x="3809880" y="2158920"/>
            <a:ext cx="373320" cy="373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48" name="Rectangle 45"/>
          <p:cNvSpPr/>
          <p:nvPr/>
        </p:nvSpPr>
        <p:spPr>
          <a:xfrm>
            <a:off x="3827520" y="3562200"/>
            <a:ext cx="372960" cy="373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grpSp>
        <p:nvGrpSpPr>
          <p:cNvPr id="849" name="Group 46"/>
          <p:cNvGrpSpPr/>
          <p:nvPr/>
        </p:nvGrpSpPr>
        <p:grpSpPr>
          <a:xfrm>
            <a:off x="3719520" y="5641920"/>
            <a:ext cx="844200" cy="304560"/>
            <a:chOff x="3719520" y="5641920"/>
            <a:chExt cx="844200" cy="304560"/>
          </a:xfrm>
        </p:grpSpPr>
        <p:sp>
          <p:nvSpPr>
            <p:cNvPr id="850" name="Freeform 47"/>
            <p:cNvSpPr/>
            <p:nvPr/>
          </p:nvSpPr>
          <p:spPr>
            <a:xfrm>
              <a:off x="3732480" y="5641920"/>
              <a:ext cx="831240" cy="30456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851" name="Freeform 48"/>
            <p:cNvSpPr/>
            <p:nvPr/>
          </p:nvSpPr>
          <p:spPr>
            <a:xfrm>
              <a:off x="3719520" y="5641920"/>
              <a:ext cx="844200" cy="30456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852" name="Freeform 49"/>
            <p:cNvSpPr/>
            <p:nvPr/>
          </p:nvSpPr>
          <p:spPr>
            <a:xfrm>
              <a:off x="3732480" y="5641920"/>
              <a:ext cx="818280" cy="30456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</p:grpSp>
      <p:sp>
        <p:nvSpPr>
          <p:cNvPr id="853" name="Text Box 50"/>
          <p:cNvSpPr/>
          <p:nvPr/>
        </p:nvSpPr>
        <p:spPr>
          <a:xfrm>
            <a:off x="7921800" y="1422360"/>
            <a:ext cx="12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Risk (%)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54" name="Text Box 51"/>
          <p:cNvSpPr/>
          <p:nvPr/>
        </p:nvSpPr>
        <p:spPr>
          <a:xfrm>
            <a:off x="7913520" y="170028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+ 54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55" name="Text Box 52"/>
          <p:cNvSpPr/>
          <p:nvPr/>
        </p:nvSpPr>
        <p:spPr>
          <a:xfrm>
            <a:off x="7913520" y="214308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16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56" name="Text Box 53"/>
          <p:cNvSpPr/>
          <p:nvPr/>
        </p:nvSpPr>
        <p:spPr>
          <a:xfrm>
            <a:off x="7913520" y="30542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57" name="Text Box 54"/>
          <p:cNvSpPr/>
          <p:nvPr/>
        </p:nvSpPr>
        <p:spPr>
          <a:xfrm>
            <a:off x="7913520" y="35672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16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58" name="Text Box 55"/>
          <p:cNvSpPr/>
          <p:nvPr/>
        </p:nvSpPr>
        <p:spPr>
          <a:xfrm>
            <a:off x="7921800" y="434988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59" name="Text Box 56"/>
          <p:cNvSpPr/>
          <p:nvPr/>
        </p:nvSpPr>
        <p:spPr>
          <a:xfrm>
            <a:off x="7913520" y="487188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14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60" name="Text Box 57"/>
          <p:cNvSpPr/>
          <p:nvPr/>
        </p:nvSpPr>
        <p:spPr>
          <a:xfrm>
            <a:off x="7913520" y="5506920"/>
            <a:ext cx="12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13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grpSp>
        <p:nvGrpSpPr>
          <p:cNvPr id="861" name="Group 58"/>
          <p:cNvGrpSpPr/>
          <p:nvPr/>
        </p:nvGrpSpPr>
        <p:grpSpPr>
          <a:xfrm>
            <a:off x="2303640" y="6224760"/>
            <a:ext cx="2247480" cy="96840"/>
            <a:chOff x="2303640" y="6224760"/>
            <a:chExt cx="2247480" cy="96840"/>
          </a:xfrm>
        </p:grpSpPr>
        <p:sp>
          <p:nvSpPr>
            <p:cNvPr id="862" name="Freeform 59"/>
            <p:cNvSpPr/>
            <p:nvPr/>
          </p:nvSpPr>
          <p:spPr>
            <a:xfrm>
              <a:off x="2303640" y="6224760"/>
              <a:ext cx="95760" cy="968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863" name="Line 60"/>
            <p:cNvSpPr/>
            <p:nvPr/>
          </p:nvSpPr>
          <p:spPr>
            <a:xfrm>
              <a:off x="2399400" y="6273000"/>
              <a:ext cx="2151720" cy="1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</p:grpSp>
      <p:grpSp>
        <p:nvGrpSpPr>
          <p:cNvPr id="864" name="Group 61"/>
          <p:cNvGrpSpPr/>
          <p:nvPr/>
        </p:nvGrpSpPr>
        <p:grpSpPr>
          <a:xfrm>
            <a:off x="4897440" y="6224760"/>
            <a:ext cx="2233080" cy="95040"/>
            <a:chOff x="4897440" y="6224760"/>
            <a:chExt cx="2233080" cy="95040"/>
          </a:xfrm>
        </p:grpSpPr>
        <p:sp>
          <p:nvSpPr>
            <p:cNvPr id="865" name="Freeform 62"/>
            <p:cNvSpPr/>
            <p:nvPr/>
          </p:nvSpPr>
          <p:spPr>
            <a:xfrm>
              <a:off x="7035120" y="6224760"/>
              <a:ext cx="95400" cy="95040"/>
            </a:xfrm>
            <a:prstGeom prst="pie">
              <a:avLst/>
            </a:prstGeom>
            <a:solidFill>
              <a:srgbClr val="66ffff"/>
            </a:solidFill>
            <a:ln w="1260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866" name="Line 63"/>
            <p:cNvSpPr/>
            <p:nvPr/>
          </p:nvSpPr>
          <p:spPr>
            <a:xfrm flipH="1">
              <a:off x="4897440" y="6272280"/>
              <a:ext cx="2137680" cy="108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</p:grpSp>
      <p:sp>
        <p:nvSpPr>
          <p:cNvPr id="867" name="Rectangle 64"/>
          <p:cNvSpPr/>
          <p:nvPr/>
        </p:nvSpPr>
        <p:spPr>
          <a:xfrm>
            <a:off x="2868480" y="6411960"/>
            <a:ext cx="1389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rasugrel Better</a:t>
            </a:r>
            <a:endParaRPr b="0" lang="en-US" sz="14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68" name="Rectangle 65"/>
          <p:cNvSpPr/>
          <p:nvPr/>
        </p:nvSpPr>
        <p:spPr>
          <a:xfrm>
            <a:off x="5314320" y="6411960"/>
            <a:ext cx="155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Clopidogrel Better</a:t>
            </a:r>
            <a:endParaRPr b="0" lang="en-US" sz="14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69" name="Rectangle 66"/>
          <p:cNvSpPr/>
          <p:nvPr/>
        </p:nvSpPr>
        <p:spPr>
          <a:xfrm>
            <a:off x="4600800" y="6535800"/>
            <a:ext cx="25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R</a:t>
            </a:r>
            <a:endParaRPr b="0" lang="en-US" sz="14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70" name="Line 67"/>
          <p:cNvSpPr/>
          <p:nvPr/>
        </p:nvSpPr>
        <p:spPr>
          <a:xfrm>
            <a:off x="0" y="27687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71" name="Line 68"/>
          <p:cNvSpPr/>
          <p:nvPr/>
        </p:nvSpPr>
        <p:spPr>
          <a:xfrm>
            <a:off x="0" y="54021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72" name="Text Box 69"/>
          <p:cNvSpPr/>
          <p:nvPr/>
        </p:nvSpPr>
        <p:spPr>
          <a:xfrm>
            <a:off x="6245280" y="2235240"/>
            <a:ext cx="141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int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= 0.006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73" name="Text Box 70"/>
          <p:cNvSpPr/>
          <p:nvPr/>
        </p:nvSpPr>
        <p:spPr>
          <a:xfrm>
            <a:off x="6245280" y="3595680"/>
            <a:ext cx="141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int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= 0.18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74" name="Text Box 71"/>
          <p:cNvSpPr/>
          <p:nvPr/>
        </p:nvSpPr>
        <p:spPr>
          <a:xfrm>
            <a:off x="6246720" y="4853160"/>
            <a:ext cx="141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int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= 0.36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75" name="Rectangle 72"/>
          <p:cNvSpPr/>
          <p:nvPr/>
        </p:nvSpPr>
        <p:spPr>
          <a:xfrm>
            <a:off x="4533840" y="930240"/>
            <a:ext cx="4041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Post-hoc analysis</a:t>
            </a:r>
            <a:endParaRPr b="0" lang="en-US" sz="2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76" name="Rectangle 73"/>
          <p:cNvSpPr/>
          <p:nvPr/>
        </p:nvSpPr>
        <p:spPr>
          <a:xfrm>
            <a:off x="3876840" y="4819680"/>
            <a:ext cx="372960" cy="3729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Prasugrel in this ca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88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SC guideline "in patients over 75 years of age, prasugrel is generally not recommended because of the increased risk for fatal and intracranial bleeding and uncertain benefit except in high-risk situations (DM a history of MI), in which its effect appears to be greater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imilarly, “body weight &lt; 60 kg is a relative CI and prior stroke is an absolute CI for prasugrel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urrently the FDA label provides the option of a 5-mg dose in patients over 75 although there is limited data on thi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os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Afbeelding 3" descr="images4.jpg"/>
          <p:cNvPicPr/>
          <p:nvPr/>
        </p:nvPicPr>
        <p:blipFill>
          <a:blip r:embed="rId1"/>
          <a:stretch/>
        </p:blipFill>
        <p:spPr>
          <a:xfrm>
            <a:off x="6400800" y="4876920"/>
            <a:ext cx="2743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Ticagrelor in this pati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n PLATO patients &lt; 75 years demonstrated a significant reduction in the composite endpoint (8.6% vs 10.4%) favoring ticagrelo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For patients ≥ 75 years old, there was no significant difference in composite endpoint between ticagrelor (17.2%) and clopidogrel (18.3%). However, an interaction analysis for age was not significant and it is unclear whether the lack of clear benefit reflects the small size elderly subgroup (n = 2878, [15%]) or a potential decreased efficacy in older patient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hile the rate of bleeding was numerically increased within the elderly subgroup, it did not reach statistical significance (11.2% vs 10.8%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2" name="Afbeelding 3" descr="images4.jpg"/>
          <p:cNvPicPr/>
          <p:nvPr/>
        </p:nvPicPr>
        <p:blipFill>
          <a:blip r:embed="rId1"/>
          <a:stretch/>
        </p:blipFill>
        <p:spPr>
          <a:xfrm>
            <a:off x="6477120" y="5334120"/>
            <a:ext cx="2743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Case II  Answer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884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An 80-year-old diabetic woman presents with NONSTEMI; blood pressure 130/70, pulse 80/min, weight 55 kilo’s, her calculated glomerular filtration rate is 40 mL/min. How should the antithrombotic therapy be managed in this patient (assuming no other contraindications) and an invasive approach?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Q. Clopidogrel, Prasugrel, Ticagrelor added?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65666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If treated with clopidogrel 150 mg: NO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65666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If treated with Ticagrelor half dose; No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65666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If treated with Prasugrel 5 mg Yes  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886" name="Afbeelding 5" descr="images4.jpg"/>
          <p:cNvPicPr/>
          <p:nvPr/>
        </p:nvPicPr>
        <p:blipFill>
          <a:blip r:embed="rId1"/>
          <a:stretch/>
        </p:blipFill>
        <p:spPr>
          <a:xfrm>
            <a:off x="6400800" y="47242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ooter Placeholder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Background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44600" y="1600200"/>
            <a:ext cx="84708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35% of patients presenting with ACS ≥ 75 yrs. 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0">
              <a:lnSpc>
                <a:spcPts val="20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60% of MI-related death in patients ≥ 75 yrs.</a:t>
            </a:r>
            <a:r>
              <a:rPr b="0" lang="en-US" sz="2800" spc="-1" strike="noStrike" baseline="30000">
                <a:solidFill>
                  <a:srgbClr val="656667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0">
              <a:lnSpc>
                <a:spcPts val="20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Risk of in hospital death for ACS increases with 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age: 70%/10 yrs.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667"/>
                </a:solidFill>
                <a:latin typeface="Arial"/>
              </a:rPr>
              <a:t>The elderly population is increasing</a:t>
            </a:r>
            <a:r>
              <a:rPr b="0" lang="en-US" sz="2800" spc="-1" strike="noStrike" baseline="30000">
                <a:solidFill>
                  <a:srgbClr val="656667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66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01" name="Afbeelding 4" descr="Unknown.jpg"/>
          <p:cNvPicPr/>
          <p:nvPr/>
        </p:nvPicPr>
        <p:blipFill>
          <a:blip r:embed="rId1"/>
          <a:stretch/>
        </p:blipFill>
        <p:spPr>
          <a:xfrm>
            <a:off x="0" y="4343400"/>
            <a:ext cx="26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6522"/>
                </a:solidFill>
                <a:latin typeface="Arial"/>
              </a:rPr>
              <a:t>Case II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888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An 80-year-old diabetic woman presents with NONSTEMI; blood pressure 130/70, pulse 80/min, weight 55 kilo’s, her calculated glomerular filtration rate is 40 mL/min.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Q. What anticoagulant to use in this patient?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UFH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Enoxaparin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65666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Fondaparinux   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890" name="Afbeelding 5" descr="images4.jpg"/>
          <p:cNvPicPr/>
          <p:nvPr/>
        </p:nvPicPr>
        <p:blipFill>
          <a:blip r:embed="rId1"/>
          <a:stretch/>
        </p:blipFill>
        <p:spPr>
          <a:xfrm>
            <a:off x="6400800" y="47242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66"/>
                </a:solidFill>
                <a:latin typeface="Arial"/>
              </a:rPr>
              <a:t>Background: OASIS 5 </a:t>
            </a:r>
            <a:br>
              <a:rPr sz="3600"/>
            </a:br>
            <a:r>
              <a:rPr b="0" lang="en-CA" sz="2000" spc="-1" strike="noStrike">
                <a:solidFill>
                  <a:srgbClr val="ffff66"/>
                </a:solidFill>
                <a:latin typeface="Arial"/>
              </a:rPr>
              <a:t>Randomized  trial of Fondaparinux vs. Enoxaparin in NSTEACS (n=20,078) demonstrated non-inferiority for CV death, MI, Refractory Isch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Box 9"/>
          <p:cNvSpPr/>
          <p:nvPr/>
        </p:nvSpPr>
        <p:spPr>
          <a:xfrm>
            <a:off x="0" y="5572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Fondapa vs. Enox reduced major bleeding by 48% and mortality by 17%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In patients over 75: similar efficacy and bleeding advantage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4500720" y="6581880"/>
            <a:ext cx="46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ASIS 5 Investigators. 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N Engl J Med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2006;354:1464-76</a:t>
            </a:r>
            <a:endParaRPr b="0" lang="en-US" sz="1200" spc="-1" strike="noStrike">
              <a:solidFill>
                <a:srgbClr val="656667"/>
              </a:solidFill>
              <a:latin typeface="Arial"/>
            </a:endParaRPr>
          </a:p>
        </p:txBody>
      </p:sp>
      <p:grpSp>
        <p:nvGrpSpPr>
          <p:cNvPr id="894" name="Group 4"/>
          <p:cNvGrpSpPr/>
          <p:nvPr/>
        </p:nvGrpSpPr>
        <p:grpSpPr>
          <a:xfrm>
            <a:off x="-181080" y="1773360"/>
            <a:ext cx="4568760" cy="3603600"/>
            <a:chOff x="-181080" y="1773360"/>
            <a:chExt cx="4568760" cy="3603600"/>
          </a:xfrm>
        </p:grpSpPr>
        <p:sp>
          <p:nvSpPr>
            <p:cNvPr id="895" name="AutoShape 3"/>
            <p:cNvSpPr/>
            <p:nvPr/>
          </p:nvSpPr>
          <p:spPr>
            <a:xfrm>
              <a:off x="-181080" y="1844640"/>
              <a:ext cx="4567320" cy="34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896" name="Rectangle 5"/>
            <p:cNvSpPr/>
            <p:nvPr/>
          </p:nvSpPr>
          <p:spPr>
            <a:xfrm>
              <a:off x="-181080" y="1773360"/>
              <a:ext cx="4568760" cy="3603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897" name="Rectangle 8"/>
            <p:cNvSpPr/>
            <p:nvPr/>
          </p:nvSpPr>
          <p:spPr>
            <a:xfrm>
              <a:off x="1124280" y="2060640"/>
              <a:ext cx="2983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000"/>
                  </a:solidFill>
                  <a:latin typeface="Arial"/>
                </a:rPr>
                <a:t>Major Bleeding at 9 days</a:t>
              </a:r>
              <a:endParaRPr b="0" lang="en-US" sz="20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898" name="Rectangle 12"/>
            <p:cNvSpPr/>
            <p:nvPr/>
          </p:nvSpPr>
          <p:spPr>
            <a:xfrm>
              <a:off x="4237200" y="509904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899" name="Rectangle 14"/>
            <p:cNvSpPr/>
            <p:nvPr/>
          </p:nvSpPr>
          <p:spPr>
            <a:xfrm>
              <a:off x="3964680" y="3054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c000"/>
                  </a:solidFill>
                  <a:latin typeface="Arial"/>
                </a:rPr>
                <a:t>48% </a:t>
              </a:r>
              <a:endParaRPr b="0" lang="en-US" sz="12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0" name="Rectangle 15"/>
            <p:cNvSpPr/>
            <p:nvPr/>
          </p:nvSpPr>
          <p:spPr>
            <a:xfrm>
              <a:off x="3922560" y="3238560"/>
              <a:ext cx="40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c000"/>
                  </a:solidFill>
                  <a:latin typeface="Arial"/>
                </a:rPr>
                <a:t>relative 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1" name="Rectangle 16"/>
            <p:cNvSpPr/>
            <p:nvPr/>
          </p:nvSpPr>
          <p:spPr>
            <a:xfrm>
              <a:off x="4017960" y="3375000"/>
              <a:ext cx="212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c000"/>
                  </a:solidFill>
                  <a:latin typeface="Arial"/>
                </a:rPr>
                <a:t>risk 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2" name="Rectangle 17"/>
            <p:cNvSpPr/>
            <p:nvPr/>
          </p:nvSpPr>
          <p:spPr>
            <a:xfrm>
              <a:off x="3869280" y="3513240"/>
              <a:ext cx="47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c000"/>
                  </a:solidFill>
                  <a:latin typeface="Arial"/>
                </a:rPr>
                <a:t>reduction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3" name="Rectangle 22"/>
            <p:cNvSpPr/>
            <p:nvPr/>
          </p:nvSpPr>
          <p:spPr>
            <a:xfrm>
              <a:off x="1943640" y="4888080"/>
              <a:ext cx="2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00"/>
                  </a:solidFill>
                  <a:latin typeface="Arial"/>
                </a:rPr>
                <a:t>Days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4" name="Rectangle 23"/>
            <p:cNvSpPr/>
            <p:nvPr/>
          </p:nvSpPr>
          <p:spPr>
            <a:xfrm>
              <a:off x="311040" y="428616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5" name="Rectangle 24"/>
            <p:cNvSpPr/>
            <p:nvPr/>
          </p:nvSpPr>
          <p:spPr>
            <a:xfrm>
              <a:off x="662040" y="4216320"/>
              <a:ext cx="34920" cy="4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6" name="Rectangle 25"/>
            <p:cNvSpPr/>
            <p:nvPr/>
          </p:nvSpPr>
          <p:spPr>
            <a:xfrm>
              <a:off x="662040" y="3827520"/>
              <a:ext cx="34920" cy="4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7" name="Freeform 26"/>
            <p:cNvSpPr/>
            <p:nvPr/>
          </p:nvSpPr>
          <p:spPr>
            <a:xfrm>
              <a:off x="662040" y="3438360"/>
              <a:ext cx="34920" cy="6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8" name="Freeform 27"/>
            <p:cNvSpPr/>
            <p:nvPr/>
          </p:nvSpPr>
          <p:spPr>
            <a:xfrm>
              <a:off x="662040" y="3049560"/>
              <a:ext cx="34920" cy="6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09" name="Rectangle 28"/>
            <p:cNvSpPr/>
            <p:nvPr/>
          </p:nvSpPr>
          <p:spPr>
            <a:xfrm>
              <a:off x="695160" y="2881440"/>
              <a:ext cx="4680" cy="1796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0" name="Rectangle 29"/>
            <p:cNvSpPr/>
            <p:nvPr/>
          </p:nvSpPr>
          <p:spPr>
            <a:xfrm>
              <a:off x="516600" y="45734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1" name="Rectangle 30"/>
            <p:cNvSpPr/>
            <p:nvPr/>
          </p:nvSpPr>
          <p:spPr>
            <a:xfrm>
              <a:off x="476640" y="41878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1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2" name="Rectangle 31"/>
            <p:cNvSpPr/>
            <p:nvPr/>
          </p:nvSpPr>
          <p:spPr>
            <a:xfrm>
              <a:off x="478080" y="38005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2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3" name="Rectangle 32"/>
            <p:cNvSpPr/>
            <p:nvPr/>
          </p:nvSpPr>
          <p:spPr>
            <a:xfrm>
              <a:off x="480600" y="34066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3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4" name="Rectangle 33"/>
            <p:cNvSpPr/>
            <p:nvPr/>
          </p:nvSpPr>
          <p:spPr>
            <a:xfrm>
              <a:off x="495720" y="30178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4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5" name="Freeform 34"/>
            <p:cNvSpPr/>
            <p:nvPr/>
          </p:nvSpPr>
          <p:spPr>
            <a:xfrm>
              <a:off x="696960" y="3000240"/>
              <a:ext cx="2765160" cy="16160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6" name="Freeform 35"/>
            <p:cNvSpPr/>
            <p:nvPr/>
          </p:nvSpPr>
          <p:spPr>
            <a:xfrm>
              <a:off x="696960" y="3759120"/>
              <a:ext cx="2774880" cy="857160"/>
            </a:xfrm>
            <a:prstGeom prst="pi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7" name="Rectangle 36"/>
            <p:cNvSpPr/>
            <p:nvPr/>
          </p:nvSpPr>
          <p:spPr>
            <a:xfrm>
              <a:off x="695160" y="4672080"/>
              <a:ext cx="4680" cy="3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8" name="Freeform 37"/>
            <p:cNvSpPr/>
            <p:nvPr/>
          </p:nvSpPr>
          <p:spPr>
            <a:xfrm>
              <a:off x="1001520" y="4672080"/>
              <a:ext cx="6480" cy="34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19" name="Rectangle 38"/>
            <p:cNvSpPr/>
            <p:nvPr/>
          </p:nvSpPr>
          <p:spPr>
            <a:xfrm>
              <a:off x="1309680" y="4672080"/>
              <a:ext cx="4680" cy="3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0" name="Freeform 39"/>
            <p:cNvSpPr/>
            <p:nvPr/>
          </p:nvSpPr>
          <p:spPr>
            <a:xfrm>
              <a:off x="1617480" y="4672080"/>
              <a:ext cx="4680" cy="34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1" name="Freeform 40"/>
            <p:cNvSpPr/>
            <p:nvPr/>
          </p:nvSpPr>
          <p:spPr>
            <a:xfrm>
              <a:off x="1923840" y="4672080"/>
              <a:ext cx="6480" cy="34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2" name="Rectangle 41"/>
            <p:cNvSpPr/>
            <p:nvPr/>
          </p:nvSpPr>
          <p:spPr>
            <a:xfrm>
              <a:off x="2232000" y="4672080"/>
              <a:ext cx="4680" cy="3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3" name="Freeform 42"/>
            <p:cNvSpPr/>
            <p:nvPr/>
          </p:nvSpPr>
          <p:spPr>
            <a:xfrm>
              <a:off x="2538360" y="4672080"/>
              <a:ext cx="6120" cy="34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4" name="Rectangle 43"/>
            <p:cNvSpPr/>
            <p:nvPr/>
          </p:nvSpPr>
          <p:spPr>
            <a:xfrm>
              <a:off x="2846160" y="4672080"/>
              <a:ext cx="5040" cy="3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5" name="Rectangle 44"/>
            <p:cNvSpPr/>
            <p:nvPr/>
          </p:nvSpPr>
          <p:spPr>
            <a:xfrm>
              <a:off x="3154320" y="4672080"/>
              <a:ext cx="4680" cy="3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6" name="Freeform 45"/>
            <p:cNvSpPr/>
            <p:nvPr/>
          </p:nvSpPr>
          <p:spPr>
            <a:xfrm>
              <a:off x="3460680" y="4672080"/>
              <a:ext cx="6480" cy="34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7" name="Rectangle 46"/>
            <p:cNvSpPr/>
            <p:nvPr/>
          </p:nvSpPr>
          <p:spPr>
            <a:xfrm>
              <a:off x="696960" y="4670280"/>
              <a:ext cx="2766960" cy="5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8" name="Rectangle 47"/>
            <p:cNvSpPr/>
            <p:nvPr/>
          </p:nvSpPr>
          <p:spPr>
            <a:xfrm>
              <a:off x="745920" y="479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29" name="Rectangle 48"/>
            <p:cNvSpPr/>
            <p:nvPr/>
          </p:nvSpPr>
          <p:spPr>
            <a:xfrm>
              <a:off x="1052280" y="479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0" name="Rectangle 49"/>
            <p:cNvSpPr/>
            <p:nvPr/>
          </p:nvSpPr>
          <p:spPr>
            <a:xfrm>
              <a:off x="1360080" y="479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1" name="Rectangle 50"/>
            <p:cNvSpPr/>
            <p:nvPr/>
          </p:nvSpPr>
          <p:spPr>
            <a:xfrm>
              <a:off x="1634760" y="479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2" name="Rectangle 51"/>
            <p:cNvSpPr/>
            <p:nvPr/>
          </p:nvSpPr>
          <p:spPr>
            <a:xfrm>
              <a:off x="1942200" y="479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3" name="Rectangle 52"/>
            <p:cNvSpPr/>
            <p:nvPr/>
          </p:nvSpPr>
          <p:spPr>
            <a:xfrm>
              <a:off x="2249280" y="4773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4" name="Rectangle 53"/>
            <p:cNvSpPr/>
            <p:nvPr/>
          </p:nvSpPr>
          <p:spPr>
            <a:xfrm>
              <a:off x="2550960" y="478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5" name="Rectangle 54"/>
            <p:cNvSpPr/>
            <p:nvPr/>
          </p:nvSpPr>
          <p:spPr>
            <a:xfrm>
              <a:off x="2857320" y="475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6" name="Rectangle 55"/>
            <p:cNvSpPr/>
            <p:nvPr/>
          </p:nvSpPr>
          <p:spPr>
            <a:xfrm>
              <a:off x="3166200" y="475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7" name="Rectangle 56"/>
            <p:cNvSpPr/>
            <p:nvPr/>
          </p:nvSpPr>
          <p:spPr>
            <a:xfrm>
              <a:off x="3472560" y="475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8" name="Rectangle 57"/>
            <p:cNvSpPr/>
            <p:nvPr/>
          </p:nvSpPr>
          <p:spPr>
            <a:xfrm>
              <a:off x="902520" y="316404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HR: 0.52 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39" name="Rectangle 58"/>
            <p:cNvSpPr/>
            <p:nvPr/>
          </p:nvSpPr>
          <p:spPr>
            <a:xfrm>
              <a:off x="901440" y="3287880"/>
              <a:ext cx="67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95% CI: 0.44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0" name="Rectangle 59"/>
            <p:cNvSpPr/>
            <p:nvPr/>
          </p:nvSpPr>
          <p:spPr>
            <a:xfrm>
              <a:off x="1571760" y="3287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1" name="Rectangle 60"/>
            <p:cNvSpPr/>
            <p:nvPr/>
          </p:nvSpPr>
          <p:spPr>
            <a:xfrm>
              <a:off x="1607400" y="32878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0.61 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2" name="Rectangle 61"/>
            <p:cNvSpPr/>
            <p:nvPr/>
          </p:nvSpPr>
          <p:spPr>
            <a:xfrm>
              <a:off x="901800" y="3409920"/>
              <a:ext cx="48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p&lt;0.0001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3" name="Rectangle 62"/>
            <p:cNvSpPr/>
            <p:nvPr/>
          </p:nvSpPr>
          <p:spPr>
            <a:xfrm>
              <a:off x="2414160" y="2978280"/>
              <a:ext cx="68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oxaparin</a:t>
              </a:r>
              <a:endParaRPr b="0" lang="en-US" sz="10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4" name="Rectangle 63"/>
            <p:cNvSpPr/>
            <p:nvPr/>
          </p:nvSpPr>
          <p:spPr>
            <a:xfrm>
              <a:off x="2639520" y="4064040"/>
              <a:ext cx="83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ondaparinux</a:t>
              </a:r>
              <a:endParaRPr b="0" lang="en-US" sz="10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5" name="Freeform 64"/>
            <p:cNvSpPr/>
            <p:nvPr/>
          </p:nvSpPr>
          <p:spPr>
            <a:xfrm>
              <a:off x="662040" y="4599000"/>
              <a:ext cx="34920" cy="6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6" name="Rectangle 65"/>
            <p:cNvSpPr/>
            <p:nvPr/>
          </p:nvSpPr>
          <p:spPr>
            <a:xfrm>
              <a:off x="3595680" y="290988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4.1 %</a:t>
              </a:r>
              <a:endParaRPr b="0" lang="en-US" sz="10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7" name="Rectangle 66"/>
            <p:cNvSpPr/>
            <p:nvPr/>
          </p:nvSpPr>
          <p:spPr>
            <a:xfrm>
              <a:off x="3558960" y="372096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.2 %</a:t>
              </a:r>
              <a:endParaRPr b="0" lang="en-US" sz="10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8" name="Freeform 67"/>
            <p:cNvSpPr/>
            <p:nvPr/>
          </p:nvSpPr>
          <p:spPr>
            <a:xfrm>
              <a:off x="3601800" y="3095640"/>
              <a:ext cx="177840" cy="57132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49" name="Freeform 68"/>
            <p:cNvSpPr/>
            <p:nvPr/>
          </p:nvSpPr>
          <p:spPr>
            <a:xfrm>
              <a:off x="3597120" y="3092400"/>
              <a:ext cx="189000" cy="577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</p:grpSp>
      <p:grpSp>
        <p:nvGrpSpPr>
          <p:cNvPr id="950" name="Group 65"/>
          <p:cNvGrpSpPr/>
          <p:nvPr/>
        </p:nvGrpSpPr>
        <p:grpSpPr>
          <a:xfrm>
            <a:off x="4346640" y="1916280"/>
            <a:ext cx="4797000" cy="3749040"/>
            <a:chOff x="4346640" y="1916280"/>
            <a:chExt cx="4797000" cy="3749040"/>
          </a:xfrm>
        </p:grpSpPr>
        <p:sp>
          <p:nvSpPr>
            <p:cNvPr id="951" name="AutoShape 64"/>
            <p:cNvSpPr/>
            <p:nvPr/>
          </p:nvSpPr>
          <p:spPr>
            <a:xfrm>
              <a:off x="4346640" y="1916280"/>
              <a:ext cx="4795560" cy="360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52" name="Rectangle 66"/>
            <p:cNvSpPr/>
            <p:nvPr/>
          </p:nvSpPr>
          <p:spPr>
            <a:xfrm>
              <a:off x="4346640" y="2061360"/>
              <a:ext cx="4797000" cy="3603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53" name="Rectangle 69"/>
            <p:cNvSpPr/>
            <p:nvPr/>
          </p:nvSpPr>
          <p:spPr>
            <a:xfrm>
              <a:off x="5788800" y="2059200"/>
              <a:ext cx="236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000"/>
                  </a:solidFill>
                  <a:latin typeface="Arial"/>
                </a:rPr>
                <a:t>Mortality at 30 days</a:t>
              </a:r>
              <a:endParaRPr b="0" lang="en-US" sz="20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54" name="Rectangle 70"/>
            <p:cNvSpPr/>
            <p:nvPr/>
          </p:nvSpPr>
          <p:spPr>
            <a:xfrm>
              <a:off x="4674240" y="5027040"/>
              <a:ext cx="1184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ondaparinux: 295 deaths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55" name="Rectangle 71"/>
            <p:cNvSpPr/>
            <p:nvPr/>
          </p:nvSpPr>
          <p:spPr>
            <a:xfrm>
              <a:off x="4596480" y="5153760"/>
              <a:ext cx="1078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Enoxaparin: 352 deaths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56" name="Rectangle 72"/>
            <p:cNvSpPr/>
            <p:nvPr/>
          </p:nvSpPr>
          <p:spPr>
            <a:xfrm>
              <a:off x="6824160" y="489852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66"/>
                  </a:solidFill>
                  <a:latin typeface="Arial"/>
                </a:rPr>
                <a:t>Days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57" name="Rectangle 73"/>
            <p:cNvSpPr/>
            <p:nvPr/>
          </p:nvSpPr>
          <p:spPr>
            <a:xfrm>
              <a:off x="5232960" y="47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58" name="Rectangle 74"/>
            <p:cNvSpPr/>
            <p:nvPr/>
          </p:nvSpPr>
          <p:spPr>
            <a:xfrm>
              <a:off x="5506200" y="47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59" name="Rectangle 75"/>
            <p:cNvSpPr/>
            <p:nvPr/>
          </p:nvSpPr>
          <p:spPr>
            <a:xfrm>
              <a:off x="5779800" y="47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0" name="Rectangle 76"/>
            <p:cNvSpPr/>
            <p:nvPr/>
          </p:nvSpPr>
          <p:spPr>
            <a:xfrm>
              <a:off x="6054480" y="47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1" name="Rectangle 77"/>
            <p:cNvSpPr/>
            <p:nvPr/>
          </p:nvSpPr>
          <p:spPr>
            <a:xfrm>
              <a:off x="6297120" y="4740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2" name="Rectangle 78"/>
            <p:cNvSpPr/>
            <p:nvPr/>
          </p:nvSpPr>
          <p:spPr>
            <a:xfrm>
              <a:off x="6571080" y="4740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3" name="Rectangle 79"/>
            <p:cNvSpPr/>
            <p:nvPr/>
          </p:nvSpPr>
          <p:spPr>
            <a:xfrm>
              <a:off x="6845400" y="4740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4" name="Rectangle 80"/>
            <p:cNvSpPr/>
            <p:nvPr/>
          </p:nvSpPr>
          <p:spPr>
            <a:xfrm>
              <a:off x="7118640" y="4740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5" name="Rectangle 81"/>
            <p:cNvSpPr/>
            <p:nvPr/>
          </p:nvSpPr>
          <p:spPr>
            <a:xfrm>
              <a:off x="7391880" y="4740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6" name="Rectangle 82"/>
            <p:cNvSpPr/>
            <p:nvPr/>
          </p:nvSpPr>
          <p:spPr>
            <a:xfrm>
              <a:off x="7665120" y="4740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7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7" name="Rectangle 83"/>
            <p:cNvSpPr/>
            <p:nvPr/>
          </p:nvSpPr>
          <p:spPr>
            <a:xfrm>
              <a:off x="7938720" y="4740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8" name="Rectangle 84"/>
            <p:cNvSpPr/>
            <p:nvPr/>
          </p:nvSpPr>
          <p:spPr>
            <a:xfrm>
              <a:off x="4788360" y="4179960"/>
              <a:ext cx="360" cy="2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69" name="Freeform 85"/>
            <p:cNvSpPr/>
            <p:nvPr/>
          </p:nvSpPr>
          <p:spPr>
            <a:xfrm>
              <a:off x="5181840" y="4641840"/>
              <a:ext cx="38160" cy="6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0" name="Freeform 86"/>
            <p:cNvSpPr/>
            <p:nvPr/>
          </p:nvSpPr>
          <p:spPr>
            <a:xfrm>
              <a:off x="5181840" y="4179960"/>
              <a:ext cx="38160" cy="6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1" name="Rectangle 87"/>
            <p:cNvSpPr/>
            <p:nvPr/>
          </p:nvSpPr>
          <p:spPr>
            <a:xfrm>
              <a:off x="5181840" y="3718080"/>
              <a:ext cx="38160" cy="4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2" name="Freeform 88"/>
            <p:cNvSpPr/>
            <p:nvPr/>
          </p:nvSpPr>
          <p:spPr>
            <a:xfrm>
              <a:off x="5181840" y="3254760"/>
              <a:ext cx="38160" cy="6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3" name="Rectangle 89"/>
            <p:cNvSpPr/>
            <p:nvPr/>
          </p:nvSpPr>
          <p:spPr>
            <a:xfrm>
              <a:off x="5216760" y="2767680"/>
              <a:ext cx="4680" cy="1973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4" name="Rectangle 90"/>
            <p:cNvSpPr/>
            <p:nvPr/>
          </p:nvSpPr>
          <p:spPr>
            <a:xfrm>
              <a:off x="4982040" y="45669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5" name="Rectangle 91"/>
            <p:cNvSpPr/>
            <p:nvPr/>
          </p:nvSpPr>
          <p:spPr>
            <a:xfrm>
              <a:off x="4967640" y="41083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1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6" name="Rectangle 92"/>
            <p:cNvSpPr/>
            <p:nvPr/>
          </p:nvSpPr>
          <p:spPr>
            <a:xfrm>
              <a:off x="4954680" y="36414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2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7" name="Rectangle 93"/>
            <p:cNvSpPr/>
            <p:nvPr/>
          </p:nvSpPr>
          <p:spPr>
            <a:xfrm>
              <a:off x="4969440" y="31798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3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8" name="Freeform 94"/>
            <p:cNvSpPr/>
            <p:nvPr/>
          </p:nvSpPr>
          <p:spPr>
            <a:xfrm>
              <a:off x="5220000" y="2956320"/>
              <a:ext cx="2835360" cy="16966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79" name="Freeform 95"/>
            <p:cNvSpPr/>
            <p:nvPr/>
          </p:nvSpPr>
          <p:spPr>
            <a:xfrm>
              <a:off x="5220000" y="3238200"/>
              <a:ext cx="2835360" cy="1415160"/>
            </a:xfrm>
            <a:prstGeom prst="pi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0" name="Rectangle 96"/>
            <p:cNvSpPr/>
            <p:nvPr/>
          </p:nvSpPr>
          <p:spPr>
            <a:xfrm>
              <a:off x="5216760" y="4713480"/>
              <a:ext cx="468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1" name="Rectangle 97"/>
            <p:cNvSpPr/>
            <p:nvPr/>
          </p:nvSpPr>
          <p:spPr>
            <a:xfrm>
              <a:off x="5490000" y="4713480"/>
              <a:ext cx="504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2" name="Rectangle 98"/>
            <p:cNvSpPr/>
            <p:nvPr/>
          </p:nvSpPr>
          <p:spPr>
            <a:xfrm>
              <a:off x="5763240" y="4713480"/>
              <a:ext cx="504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3" name="Rectangle 99"/>
            <p:cNvSpPr/>
            <p:nvPr/>
          </p:nvSpPr>
          <p:spPr>
            <a:xfrm>
              <a:off x="6036840" y="4713480"/>
              <a:ext cx="468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4" name="Rectangle 100"/>
            <p:cNvSpPr/>
            <p:nvPr/>
          </p:nvSpPr>
          <p:spPr>
            <a:xfrm>
              <a:off x="6311880" y="4713480"/>
              <a:ext cx="504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5" name="Freeform 101"/>
            <p:cNvSpPr/>
            <p:nvPr/>
          </p:nvSpPr>
          <p:spPr>
            <a:xfrm>
              <a:off x="6583680" y="4713480"/>
              <a:ext cx="6480" cy="36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6" name="Rectangle 102"/>
            <p:cNvSpPr/>
            <p:nvPr/>
          </p:nvSpPr>
          <p:spPr>
            <a:xfrm>
              <a:off x="6858720" y="4713480"/>
              <a:ext cx="468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7" name="Rectangle 103"/>
            <p:cNvSpPr/>
            <p:nvPr/>
          </p:nvSpPr>
          <p:spPr>
            <a:xfrm>
              <a:off x="7131960" y="4713480"/>
              <a:ext cx="468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8" name="Rectangle 104"/>
            <p:cNvSpPr/>
            <p:nvPr/>
          </p:nvSpPr>
          <p:spPr>
            <a:xfrm>
              <a:off x="7405200" y="4713480"/>
              <a:ext cx="468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89" name="Rectangle 105"/>
            <p:cNvSpPr/>
            <p:nvPr/>
          </p:nvSpPr>
          <p:spPr>
            <a:xfrm>
              <a:off x="7678800" y="4713480"/>
              <a:ext cx="468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0" name="Rectangle 106"/>
            <p:cNvSpPr/>
            <p:nvPr/>
          </p:nvSpPr>
          <p:spPr>
            <a:xfrm>
              <a:off x="7953840" y="4713480"/>
              <a:ext cx="4680" cy="3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1" name="Freeform 107"/>
            <p:cNvSpPr/>
            <p:nvPr/>
          </p:nvSpPr>
          <p:spPr>
            <a:xfrm>
              <a:off x="5220000" y="4710240"/>
              <a:ext cx="2735280" cy="6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2" name="Rectangle 108"/>
            <p:cNvSpPr/>
            <p:nvPr/>
          </p:nvSpPr>
          <p:spPr>
            <a:xfrm>
              <a:off x="6475320" y="397332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00"/>
                  </a:solidFill>
                  <a:latin typeface="Arial"/>
                </a:rPr>
                <a:t>HR: 0.83 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3" name="Rectangle 109"/>
            <p:cNvSpPr/>
            <p:nvPr/>
          </p:nvSpPr>
          <p:spPr>
            <a:xfrm>
              <a:off x="6478560" y="4116600"/>
              <a:ext cx="67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00"/>
                  </a:solidFill>
                  <a:latin typeface="Arial"/>
                </a:rPr>
                <a:t>95% CI: 0.71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4" name="Rectangle 110"/>
            <p:cNvSpPr/>
            <p:nvPr/>
          </p:nvSpPr>
          <p:spPr>
            <a:xfrm>
              <a:off x="7166520" y="4116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5" name="Rectangle 111"/>
            <p:cNvSpPr/>
            <p:nvPr/>
          </p:nvSpPr>
          <p:spPr>
            <a:xfrm>
              <a:off x="7210440" y="4116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00"/>
                  </a:solidFill>
                  <a:latin typeface="Arial"/>
                </a:rPr>
                <a:t>0.97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6" name="Rectangle 112"/>
            <p:cNvSpPr/>
            <p:nvPr/>
          </p:nvSpPr>
          <p:spPr>
            <a:xfrm>
              <a:off x="6471720" y="4261680"/>
              <a:ext cx="36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00"/>
                  </a:solidFill>
                  <a:latin typeface="Arial"/>
                </a:rPr>
                <a:t>p=0.02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7" name="Rectangle 113"/>
            <p:cNvSpPr/>
            <p:nvPr/>
          </p:nvSpPr>
          <p:spPr>
            <a:xfrm>
              <a:off x="6543720" y="2937960"/>
              <a:ext cx="68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oxaparin</a:t>
              </a:r>
              <a:endParaRPr b="0" lang="en-US" sz="10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8" name="Rectangle 114"/>
            <p:cNvSpPr/>
            <p:nvPr/>
          </p:nvSpPr>
          <p:spPr>
            <a:xfrm>
              <a:off x="7157520" y="3531600"/>
              <a:ext cx="83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ondaparinux</a:t>
              </a:r>
              <a:endParaRPr b="0" lang="en-US" sz="10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999" name="Freeform 115"/>
            <p:cNvSpPr/>
            <p:nvPr/>
          </p:nvSpPr>
          <p:spPr>
            <a:xfrm>
              <a:off x="5181840" y="2787840"/>
              <a:ext cx="38160" cy="6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1000" name="Rectangle 116"/>
            <p:cNvSpPr/>
            <p:nvPr/>
          </p:nvSpPr>
          <p:spPr>
            <a:xfrm>
              <a:off x="4954680" y="27115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04</a:t>
              </a:r>
              <a:endParaRPr b="0" lang="en-US" sz="8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1001" name="Rectangle 117"/>
            <p:cNvSpPr/>
            <p:nvPr/>
          </p:nvSpPr>
          <p:spPr>
            <a:xfrm>
              <a:off x="8139600" y="28080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3.5 %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1002" name="Rectangle 118"/>
            <p:cNvSpPr/>
            <p:nvPr/>
          </p:nvSpPr>
          <p:spPr>
            <a:xfrm>
              <a:off x="8139600" y="31849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.9 %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1003" name="Rectangle 122"/>
            <p:cNvSpPr/>
            <p:nvPr/>
          </p:nvSpPr>
          <p:spPr>
            <a:xfrm>
              <a:off x="8986680" y="53452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1004" name="Freeform 124"/>
            <p:cNvSpPr/>
            <p:nvPr/>
          </p:nvSpPr>
          <p:spPr>
            <a:xfrm>
              <a:off x="8468640" y="2891520"/>
              <a:ext cx="149760" cy="26316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1005" name="Freeform 125"/>
            <p:cNvSpPr/>
            <p:nvPr/>
          </p:nvSpPr>
          <p:spPr>
            <a:xfrm>
              <a:off x="8462160" y="2889720"/>
              <a:ext cx="161640" cy="268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1006" name="Rectangle 126"/>
            <p:cNvSpPr/>
            <p:nvPr/>
          </p:nvSpPr>
          <p:spPr>
            <a:xfrm>
              <a:off x="8708040" y="2846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000"/>
                  </a:solidFill>
                  <a:latin typeface="Arial"/>
                </a:rPr>
                <a:t>17 % 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  <p:sp>
          <p:nvSpPr>
            <p:cNvPr id="1007" name="Rectangle 127"/>
            <p:cNvSpPr/>
            <p:nvPr/>
          </p:nvSpPr>
          <p:spPr>
            <a:xfrm>
              <a:off x="8712720" y="298980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000"/>
                  </a:solidFill>
                  <a:latin typeface="Arial"/>
                </a:rPr>
                <a:t>RRR</a:t>
              </a:r>
              <a:endParaRPr b="0" lang="en-US" sz="900" spc="-1" strike="noStrike">
                <a:solidFill>
                  <a:srgbClr val="656667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3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2" descr="C:\Documents and Settings\z874126.UMCDD4W4Y0J\My Documents\Documents\ACUITY.TIF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2" descr="Fonda Davos"/>
          <p:cNvPicPr/>
          <p:nvPr/>
        </p:nvPicPr>
        <p:blipFill>
          <a:blip r:embed="rId1"/>
          <a:srcRect l="4323" t="11134" r="2744" b="12199"/>
          <a:stretch/>
        </p:blipFill>
        <p:spPr>
          <a:xfrm>
            <a:off x="452520" y="981000"/>
            <a:ext cx="8151840" cy="504360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78840" y="43920"/>
            <a:ext cx="8912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3300"/>
                </a:solidFill>
                <a:latin typeface="Arial Narrow"/>
              </a:rPr>
              <a:t>Acuity – Primary Endpoint Measures</a:t>
            </a:r>
            <a:endParaRPr b="0" lang="en-US" sz="4400" spc="-1" strike="noStrike">
              <a:solidFill>
                <a:srgbClr val="008294"/>
              </a:solidFill>
              <a:latin typeface="Arial"/>
            </a:endParaRPr>
          </a:p>
        </p:txBody>
      </p:sp>
      <p:sp>
        <p:nvSpPr>
          <p:cNvPr id="1011" name="Text Box 4"/>
          <p:cNvSpPr/>
          <p:nvPr/>
        </p:nvSpPr>
        <p:spPr>
          <a:xfrm>
            <a:off x="6375240" y="5661000"/>
            <a:ext cx="21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NEJM 2006;355:2203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12" name="Tekstvak 4"/>
          <p:cNvSpPr/>
          <p:nvPr/>
        </p:nvSpPr>
        <p:spPr>
          <a:xfrm>
            <a:off x="0" y="594360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56667"/>
                </a:solidFill>
                <a:latin typeface="Arial"/>
              </a:rPr>
              <a:t>A subgroup 2441 patients ≥ 75 years : bivalirudin monotherapy yielded similar ischemic outcomes but significantly lower rates of bleeding compared with heparin plus IIb/IIIa inhibitor</a:t>
            </a: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f0000"/>
                </a:solidFill>
                <a:latin typeface="Arial"/>
              </a:rPr>
              <a:t>Invasive Treatment in Elderly?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lnSpc>
                <a:spcPct val="110000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TACTICS-TIMI 18 trial subgroup analysis of 962 ≥ 65 years old found that an early invasive strategy resulted in a more pronounced absolute (4.8% vs 1%) and relative reduction (39%) in death or MI at 6 months.</a:t>
            </a: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Similarly, both absolute and relative reduction were also observed in the 278 patients ≥ 75 years old. </a:t>
            </a: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However, the invasive strategy was associated with a 3-fold increased risk of in-hospital major bleeding in subjects ≥ 75 years old (16.6% vs 6.5%, P = .009).</a:t>
            </a: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Radial excess reduces bleedings (OCTOPLUS trial)</a:t>
            </a: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PPIs reduce bleedings</a:t>
            </a: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Footer Placeholder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POPular AGE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lnSpc>
                <a:spcPct val="110000"/>
              </a:lnSpc>
              <a:spcAft>
                <a:spcPts val="90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Aim: to study the effect of ticagrelor and prasugrel versus clopidogrel in NONSTEMI patients over 75 years of age</a:t>
            </a: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90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Design: Multicenter RCT (Antonius, UMCU, Zwolle, Woerden, UMC Nijmegen</a:t>
            </a: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90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Study population: 1,000 pt NSTEMI, &gt; 75 jaar, CRUSADE &gt;31, </a:t>
            </a: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901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Hypothesis: clopidogrel superior in bleeding risk without increasing the net clinical benefit</a:t>
            </a: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Footer Placeholder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64800" y="533520"/>
            <a:ext cx="82551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Conclusions: Treating ACS in Elderly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1021" name="Rectangle 2"/>
          <p:cNvSpPr/>
          <p:nvPr/>
        </p:nvSpPr>
        <p:spPr>
          <a:xfrm>
            <a:off x="304920" y="990720"/>
            <a:ext cx="8559720" cy="5715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4aaa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65240" rIns="165240" tIns="155520" bIns="155520" anchor="ctr" anchorCtr="1">
            <a:spAutoFit/>
          </a:bodyPr>
          <a:p>
            <a:pPr marL="341280" indent="-341280">
              <a:spcBef>
                <a:spcPts val="1624"/>
              </a:spcBef>
              <a:buClr>
                <a:srgbClr val="f2652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re often CKD and bleeding</a:t>
            </a:r>
            <a:endParaRPr b="0" lang="en-US" sz="2600" spc="-1" strike="noStrike">
              <a:solidFill>
                <a:srgbClr val="656667"/>
              </a:solidFill>
              <a:latin typeface="Arial"/>
            </a:endParaRPr>
          </a:p>
          <a:p>
            <a:pPr marL="341280" indent="-341280">
              <a:spcBef>
                <a:spcPts val="1624"/>
              </a:spcBef>
              <a:buClr>
                <a:srgbClr val="f2652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 aware of overdosing</a:t>
            </a:r>
            <a:endParaRPr b="0" lang="en-US" sz="2600" spc="-1" strike="noStrike">
              <a:solidFill>
                <a:srgbClr val="656667"/>
              </a:solidFill>
              <a:latin typeface="Arial"/>
            </a:endParaRPr>
          </a:p>
          <a:p>
            <a:pPr marL="341280" indent="-341280">
              <a:spcBef>
                <a:spcPts val="1624"/>
              </a:spcBef>
              <a:buClr>
                <a:srgbClr val="f2652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e aspirin as in younger patients</a:t>
            </a:r>
            <a:endParaRPr b="0" lang="en-US" sz="2600" spc="-1" strike="noStrike">
              <a:solidFill>
                <a:srgbClr val="656667"/>
              </a:solidFill>
              <a:latin typeface="Arial"/>
            </a:endParaRPr>
          </a:p>
          <a:p>
            <a:pPr marL="341280" indent="-341280">
              <a:spcBef>
                <a:spcPts val="1624"/>
              </a:spcBef>
              <a:buClr>
                <a:srgbClr val="f2652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asugrel and Ticagrelor no benefit over clopidogrel in TRITON and PLATO</a:t>
            </a:r>
            <a:endParaRPr b="0" lang="en-US" sz="2600" spc="-1" strike="noStrike">
              <a:solidFill>
                <a:srgbClr val="656667"/>
              </a:solidFill>
              <a:latin typeface="Arial"/>
            </a:endParaRPr>
          </a:p>
          <a:p>
            <a:pPr marL="341280" indent="-341280">
              <a:spcBef>
                <a:spcPts val="1624"/>
              </a:spcBef>
              <a:buClr>
                <a:srgbClr val="f2652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e fonda or bival for high-risk patients</a:t>
            </a:r>
            <a:endParaRPr b="0" lang="en-US" sz="2600" spc="-1" strike="noStrike">
              <a:solidFill>
                <a:srgbClr val="656667"/>
              </a:solidFill>
              <a:latin typeface="Arial"/>
            </a:endParaRPr>
          </a:p>
          <a:p>
            <a:pPr marL="341280" indent="-341280">
              <a:spcBef>
                <a:spcPts val="1624"/>
              </a:spcBef>
              <a:buClr>
                <a:srgbClr val="f2652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e Proton pump inhibitors liberally</a:t>
            </a:r>
            <a:endParaRPr b="0" lang="en-US" sz="2600" spc="-1" strike="noStrike">
              <a:solidFill>
                <a:srgbClr val="656667"/>
              </a:solidFill>
              <a:latin typeface="Arial"/>
            </a:endParaRPr>
          </a:p>
          <a:p>
            <a:pPr marL="341280" indent="-341280">
              <a:spcBef>
                <a:spcPts val="1624"/>
              </a:spcBef>
              <a:buClr>
                <a:srgbClr val="f2652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sider radial access</a:t>
            </a:r>
            <a:endParaRPr b="0" lang="en-US" sz="2600" spc="-1" strike="noStrike">
              <a:solidFill>
                <a:srgbClr val="656667"/>
              </a:solidFill>
              <a:latin typeface="Arial"/>
            </a:endParaRPr>
          </a:p>
          <a:p>
            <a:pPr marL="341280" indent="-341280">
              <a:spcBef>
                <a:spcPts val="1624"/>
              </a:spcBef>
              <a:buClr>
                <a:srgbClr val="f2652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fter bleeding, readdress risk/benefit and resume antithrombotics (carefully)</a:t>
            </a:r>
            <a:endParaRPr b="0" lang="en-US" sz="2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41360" y="884160"/>
            <a:ext cx="82548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26522"/>
                </a:solidFill>
                <a:latin typeface="Arial"/>
              </a:rPr>
              <a:t>Take Care !</a:t>
            </a:r>
            <a:endParaRPr b="1" lang="en-US" sz="4400" spc="-1" strike="noStrike">
              <a:solidFill>
                <a:srgbClr val="f26522"/>
              </a:solidFill>
              <a:latin typeface="Arial"/>
            </a:endParaRPr>
          </a:p>
        </p:txBody>
      </p:sp>
      <p:pic>
        <p:nvPicPr>
          <p:cNvPr id="1023" name="Tijdelijke aanduiding voor inhoud 4" descr="images7.jpg"/>
          <p:cNvPicPr/>
          <p:nvPr/>
        </p:nvPicPr>
        <p:blipFill>
          <a:blip r:embed="rId1"/>
          <a:stretch/>
        </p:blipFill>
        <p:spPr>
          <a:xfrm>
            <a:off x="762120" y="1676520"/>
            <a:ext cx="8180280" cy="4647960"/>
          </a:xfrm>
          <a:prstGeom prst="rect">
            <a:avLst/>
          </a:prstGeom>
          <a:ln w="0">
            <a:noFill/>
          </a:ln>
        </p:spPr>
      </p:pic>
      <p:sp>
        <p:nvSpPr>
          <p:cNvPr id="1024" name="Tijdelijke aanduiding voor voettekst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Footer Placeholder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41360" y="609480"/>
            <a:ext cx="8254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The evidence is not coming from randomized trials 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Number of patients over 75 years of age is very low in RCT. </a:t>
            </a:r>
            <a:br>
              <a:rPr sz="2000"/>
            </a:br>
            <a:r>
              <a:rPr b="1" lang="en-GB" sz="2000" spc="-1" strike="noStrike">
                <a:solidFill>
                  <a:srgbClr val="656667"/>
                </a:solidFill>
                <a:latin typeface="Arial"/>
              </a:rPr>
              <a:t>In contrast, this age group represents 30-40% of those presenting in community hospitals</a:t>
            </a:r>
            <a:br>
              <a:rPr sz="2000"/>
            </a:br>
            <a:r>
              <a:rPr b="1" lang="nl-NL" sz="2000" spc="-1" strike="noStrike">
                <a:solidFill>
                  <a:srgbClr val="656667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26522"/>
              </a:solidFill>
              <a:latin typeface="Arial"/>
            </a:endParaRPr>
          </a:p>
        </p:txBody>
      </p:sp>
      <p:pic>
        <p:nvPicPr>
          <p:cNvPr id="704" name="Picture 4" descr=""/>
          <p:cNvPicPr/>
          <p:nvPr/>
        </p:nvPicPr>
        <p:blipFill>
          <a:blip r:embed="rId1"/>
          <a:stretch/>
        </p:blipFill>
        <p:spPr>
          <a:xfrm>
            <a:off x="76320" y="2513160"/>
            <a:ext cx="6324480" cy="3506760"/>
          </a:xfrm>
          <a:prstGeom prst="rect">
            <a:avLst/>
          </a:prstGeom>
          <a:ln w="0">
            <a:noFill/>
          </a:ln>
        </p:spPr>
      </p:pic>
      <p:pic>
        <p:nvPicPr>
          <p:cNvPr id="705" name="Afbeelding 4" descr="Unknown1.jpg"/>
          <p:cNvPicPr/>
          <p:nvPr/>
        </p:nvPicPr>
        <p:blipFill>
          <a:blip r:embed="rId2"/>
          <a:stretch/>
        </p:blipFill>
        <p:spPr>
          <a:xfrm>
            <a:off x="6324480" y="4419720"/>
            <a:ext cx="2819520" cy="2133360"/>
          </a:xfrm>
          <a:prstGeom prst="rect">
            <a:avLst/>
          </a:prstGeom>
          <a:ln w="0">
            <a:noFill/>
          </a:ln>
        </p:spPr>
      </p:pic>
      <p:sp>
        <p:nvSpPr>
          <p:cNvPr id="706" name="Tekstvak 6"/>
          <p:cNvSpPr/>
          <p:nvPr/>
        </p:nvSpPr>
        <p:spPr>
          <a:xfrm>
            <a:off x="2378160" y="6062760"/>
            <a:ext cx="22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656667"/>
                </a:solidFill>
                <a:latin typeface="Arial"/>
              </a:rPr>
              <a:t>Alexander et al. Circulation 2007</a:t>
            </a:r>
            <a:endParaRPr b="0" lang="en-US" sz="11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ooter Placeholder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915400" cy="5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656667"/>
                </a:solidFill>
                <a:latin typeface="Arial"/>
              </a:rPr>
              <a:t>Alexander et al Circ 2007: ACS in Elderly &gt;75 yrs (VIGOUR vs GRACE)</a:t>
            </a:r>
            <a:endParaRPr b="1" lang="en-US" sz="2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1356840"/>
            <a:ext cx="82551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667"/>
                </a:solidFill>
                <a:latin typeface="Arial"/>
              </a:rPr>
              <a:t>Patients in RCT: lower risk, less co-morbidities, less CKD than their community counterparts</a:t>
            </a: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10" name="Picture 4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6067440" cy="3429000"/>
          </a:xfrm>
          <a:prstGeom prst="rect">
            <a:avLst/>
          </a:prstGeom>
          <a:ln w="0">
            <a:noFill/>
          </a:ln>
        </p:spPr>
      </p:pic>
      <p:pic>
        <p:nvPicPr>
          <p:cNvPr id="711" name="Afbeelding 5" descr="Unknown3.jpg"/>
          <p:cNvPicPr/>
          <p:nvPr/>
        </p:nvPicPr>
        <p:blipFill>
          <a:blip r:embed="rId2"/>
          <a:stretch/>
        </p:blipFill>
        <p:spPr>
          <a:xfrm>
            <a:off x="6705720" y="4343400"/>
            <a:ext cx="2438280" cy="2209680"/>
          </a:xfrm>
          <a:prstGeom prst="rect">
            <a:avLst/>
          </a:prstGeom>
          <a:ln w="0">
            <a:noFill/>
          </a:ln>
        </p:spPr>
      </p:pic>
      <p:sp>
        <p:nvSpPr>
          <p:cNvPr id="712" name="Tekstvak 6"/>
          <p:cNvSpPr/>
          <p:nvPr/>
        </p:nvSpPr>
        <p:spPr>
          <a:xfrm>
            <a:off x="457200" y="5875200"/>
            <a:ext cx="5791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56667"/>
                </a:solidFill>
                <a:latin typeface="Arial"/>
              </a:rPr>
              <a:t>ESC guideline: Thus the applicability of findings from clinical trials to elderly patients encountered in routine clinical practice may be questionable</a:t>
            </a:r>
            <a:r>
              <a:rPr b="0" lang="en-GB" sz="1600" spc="-1" strike="noStrike">
                <a:solidFill>
                  <a:srgbClr val="656667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13" name="Rechthoek 7"/>
          <p:cNvSpPr/>
          <p:nvPr/>
        </p:nvSpPr>
        <p:spPr>
          <a:xfrm>
            <a:off x="304920" y="5791320"/>
            <a:ext cx="5943600" cy="9903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Elderly an other animal? Yes: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76320" y="173844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08040" indent="-34308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6667"/>
                </a:solidFill>
                <a:latin typeface="Arial"/>
              </a:rPr>
              <a:t>Higher Bleeding Risk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666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56667"/>
                </a:solidFill>
                <a:latin typeface="Arial"/>
              </a:rPr>
              <a:t>Elevated anticoagulant and fibrinolytic system protein levels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56667"/>
                </a:solidFill>
                <a:latin typeface="Arial"/>
              </a:rPr>
              <a:t>More CKD, decreased clearance of medications 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56667"/>
                </a:solidFill>
                <a:latin typeface="Arial"/>
              </a:rPr>
              <a:t>More interactions among medications, and concurrent use of agents that increase bleeding risk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56667"/>
                </a:solidFill>
                <a:latin typeface="Arial"/>
              </a:rPr>
              <a:t>  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56667"/>
                </a:solidFill>
                <a:latin typeface="Arial"/>
              </a:rPr>
              <a:t>Higher Thrombotic Risk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56667"/>
                </a:solidFill>
                <a:latin typeface="Arial"/>
              </a:rPr>
              <a:t>Higher platelet activation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56667"/>
                </a:solidFill>
                <a:latin typeface="Arial"/>
              </a:rPr>
              <a:t>Higher on treatment platelet reactivity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56667"/>
                </a:solidFill>
                <a:latin typeface="Arial"/>
              </a:rPr>
              <a:t>Age-related changes to vascular endothelium, and impaired synthesis of and response to NO</a:t>
            </a:r>
            <a:r>
              <a:rPr b="0" lang="en-GB" sz="2400" spc="-1" strike="noStrike">
                <a:solidFill>
                  <a:srgbClr val="656667"/>
                </a:solidFill>
                <a:latin typeface="Arial"/>
              </a:rPr>
              <a:t>. </a:t>
            </a: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  <a:p>
            <a:pPr lvl="1" marL="608040" indent="-343080">
              <a:lnSpc>
                <a:spcPts val="2098"/>
              </a:lnSpc>
              <a:buClr>
                <a:srgbClr val="65666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16" name="Footer Placeholder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17" name="Afbeelding 4" descr="images1.jpg"/>
          <p:cNvPicPr/>
          <p:nvPr/>
        </p:nvPicPr>
        <p:blipFill>
          <a:blip r:embed="rId1"/>
          <a:stretch/>
        </p:blipFill>
        <p:spPr>
          <a:xfrm>
            <a:off x="6781680" y="4648320"/>
            <a:ext cx="2362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41360" y="883800"/>
            <a:ext cx="8254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Elderly an other animal? Yes: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sp>
        <p:nvSpPr>
          <p:cNvPr id="719" name="Footer Placeholder 3"/>
          <p:cNvSpPr/>
          <p:nvPr/>
        </p:nvSpPr>
        <p:spPr>
          <a:xfrm>
            <a:off x="1058760" y="6588000"/>
            <a:ext cx="9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f26522"/>
                </a:solidFill>
                <a:latin typeface="Arial"/>
              </a:rPr>
              <a:t>| </a:t>
            </a:r>
            <a:endParaRPr b="0" lang="en-US" sz="900" spc="-1" strike="noStrike">
              <a:solidFill>
                <a:srgbClr val="656667"/>
              </a:solidFill>
              <a:latin typeface="Arial"/>
            </a:endParaRPr>
          </a:p>
        </p:txBody>
      </p:sp>
      <p:pic>
        <p:nvPicPr>
          <p:cNvPr id="720" name="Afbeelding 4" descr="images1.jpg"/>
          <p:cNvPicPr/>
          <p:nvPr/>
        </p:nvPicPr>
        <p:blipFill>
          <a:blip r:embed="rId1"/>
          <a:stretch/>
        </p:blipFill>
        <p:spPr>
          <a:xfrm>
            <a:off x="5105520" y="3657600"/>
            <a:ext cx="4038480" cy="28954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 txBox="1"/>
          <p:nvPr/>
        </p:nvSpPr>
        <p:spPr>
          <a:xfrm>
            <a:off x="444600" y="1905120"/>
            <a:ext cx="82548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56667"/>
                </a:solidFill>
                <a:latin typeface="Arial"/>
              </a:rPr>
              <a:t>They more often have CKD</a:t>
            </a:r>
            <a:endParaRPr b="1" lang="en-US" sz="4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6566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56667"/>
                </a:solidFill>
                <a:latin typeface="Arial"/>
              </a:rPr>
              <a:t>They bleed more often</a:t>
            </a:r>
            <a:endParaRPr b="1" lang="en-US" sz="40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41360" y="642600"/>
            <a:ext cx="825480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They more often have CKD</a:t>
            </a:r>
            <a:br>
              <a:rPr sz="3000"/>
            </a:br>
            <a:r>
              <a:rPr b="1" lang="nl-NL" sz="3000" spc="-1" strike="noStrike">
                <a:solidFill>
                  <a:srgbClr val="f26522"/>
                </a:solidFill>
                <a:latin typeface="Arial"/>
              </a:rPr>
              <a:t>Fox et al 2010: CKD is Bad </a:t>
            </a:r>
            <a:endParaRPr b="1" lang="en-US" sz="3000" spc="-1" strike="noStrike">
              <a:solidFill>
                <a:srgbClr val="f26522"/>
              </a:solidFill>
              <a:latin typeface="Arial"/>
            </a:endParaRPr>
          </a:p>
        </p:txBody>
      </p:sp>
      <p:pic>
        <p:nvPicPr>
          <p:cNvPr id="723" name="Picture 5" descr=""/>
          <p:cNvPicPr/>
          <p:nvPr/>
        </p:nvPicPr>
        <p:blipFill>
          <a:blip r:embed="rId1"/>
          <a:stretch/>
        </p:blipFill>
        <p:spPr>
          <a:xfrm>
            <a:off x="1116000" y="2247840"/>
            <a:ext cx="6429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6248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y more often bleed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Predictors of Major Bleeding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0" y="0"/>
          <a:ext cx="20574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057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Rectangle 4"/>
          <p:cNvSpPr/>
          <p:nvPr/>
        </p:nvSpPr>
        <p:spPr>
          <a:xfrm>
            <a:off x="812880" y="740880"/>
            <a:ext cx="764208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240" rIns="165240" tIns="155520" bIns="155520" anchor="ctr" anchorCtr="1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656667"/>
                </a:solidFill>
                <a:latin typeface="Arial"/>
              </a:rPr>
              <a:t>Variable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</a:rPr>
              <a:t>p value</a:t>
            </a:r>
            <a:r>
              <a:rPr b="0" lang="en-US" sz="2000" spc="-1" strike="noStrike">
                <a:solidFill>
                  <a:srgbClr val="eaec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c5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Patient factors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Age (per 10 yrs)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1.28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&lt;0.0001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Female sex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1.43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 &lt;0.0001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History of bleeding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2.83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&lt;0.0001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History of renal insufficiency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1.48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0.0004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Medications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Diuretics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1.69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&lt;0.0001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GPI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1.93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&lt;0.0001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Lytics and GPI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2.38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&lt;0.0001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IV inotropes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2.05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&lt;0.0001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56667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rocedures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C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.6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&lt;0.0001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ctr" pos="4635360"/>
                <a:tab algn="ctr" pos="605808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ight heart cat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2.48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&lt;0.0001</a:t>
            </a:r>
            <a:endParaRPr b="0" lang="en-US" sz="20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28" name="Line 5"/>
          <p:cNvSpPr/>
          <p:nvPr/>
        </p:nvSpPr>
        <p:spPr>
          <a:xfrm>
            <a:off x="685800" y="1279440"/>
            <a:ext cx="6667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29" name="Line 6"/>
          <p:cNvSpPr/>
          <p:nvPr/>
        </p:nvSpPr>
        <p:spPr>
          <a:xfrm>
            <a:off x="685800" y="3176640"/>
            <a:ext cx="6667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30" name="Line 7"/>
          <p:cNvSpPr/>
          <p:nvPr/>
        </p:nvSpPr>
        <p:spPr>
          <a:xfrm>
            <a:off x="685800" y="5234040"/>
            <a:ext cx="6667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  <p:sp>
        <p:nvSpPr>
          <p:cNvPr id="731" name="Text Box 8"/>
          <p:cNvSpPr/>
          <p:nvPr/>
        </p:nvSpPr>
        <p:spPr>
          <a:xfrm>
            <a:off x="5040" y="6515280"/>
            <a:ext cx="42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656667"/>
                </a:solidFill>
                <a:latin typeface="Arial"/>
              </a:rPr>
              <a:t>-- Moscucci Eur Heart J  2003;24:1815–1823</a:t>
            </a:r>
            <a:endParaRPr b="0" lang="en-US" sz="1600" spc="-1" strike="noStrike">
              <a:solidFill>
                <a:srgbClr val="6566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6:08:11Z</dcterms:created>
  <dc:creator>k.qaderdan</dc:creator>
  <dc:description/>
  <dc:language>en-US</dc:language>
  <cp:lastModifiedBy>berg03</cp:lastModifiedBy>
  <dcterms:modified xsi:type="dcterms:W3CDTF">2013-04-26T17:16:31Z</dcterms:modified>
  <cp:revision>100</cp:revision>
  <dc:subject/>
  <dc:title>Dia 1</dc:title>
</cp:coreProperties>
</file>