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7.png" ContentType="image/png"/>
  <Override PartName="/ppt/media/image34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png" ContentType="image/png"/>
  <Override PartName="/ppt/media/image31.wmf" ContentType="image/x-wmf"/>
  <Override PartName="/ppt/media/image28.png" ContentType="image/png"/>
  <Override PartName="/ppt/media/image29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20.png" ContentType="image/png"/>
  <Override PartName="/ppt/media/image2.jpeg" ContentType="image/jpeg"/>
  <Override PartName="/ppt/media/image2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7D64-40BF-4381-97B3-AC894DF25FA0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A502-96B0-4559-9F8C-4E9E083323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F8AA-B4EF-49E0-ACB4-EE38C95F157E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B955-C778-49EA-871F-D2537E80E54E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9C7C-3E18-4D1F-A063-E6094EA56B0C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B6F4-C209-428D-BC65-B4DB18D24251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380880" y="4343400"/>
            <a:ext cx="60962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details of the bleeding events are shown on this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IMI major non CABG bleed data are shown in the pair of bar graphs on the left, showing the increase in events with prasugr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fe threatening bleeding--another key safety EP ( defined as requiring a 4 unit txn, fluid or inotropic support, surgical intervention, or an ICH) occurred in 0.9 % of clopidogrel and 1.4% of prasugrel subjec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0.5% ARI with prasugrel, associated with a P value of 0.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categories of life threatening bleeding are shown to 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tal bleeding occurred in 0.1% of pts with clopidogrel and was increased to 0.4% of patients with prasugre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0.3% Absolute risk increase associated with a P value of 0.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was no difference in ICH overall in the tri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ccurring in 0.3% of pts in both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 note, in the subgroup of 518 patients with a history of prior stroke or TIA, no I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occurred with clopidogrel while 6 occurred with prasugre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significant difference at the 0.02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78C5-AD28-463E-A5C4-E4FCBB830252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7909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 a result of the discordance between efficacy and safety with prasugre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gnficant reductions in events at the cost of a significant increase in bleeding we performed a series of post-hoc exploratory analyses to identify subgroups of patients that did not have a favorable net clinical benefit or who  had net har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group with a prior cerebrovascular event (shown in red) had more primary endpoint events and increased bleeding with prasugrel, resulting in a significant net clinical benefit favoring clopidogrel. Patients without a prior cerebrovascular event, shown in green, had a net clinical benefit favoring prasugrel. The P value for interaction was significant at 0.00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derly patients and those with a low body weight (shown in yellow) tended to have better efficacy but more bleeding with prasugrel, resulting in a net clinical benefit near unity. The younger patients and those with higher body weights (shown in green) had siginificant net clinical benefit favoring prasugrel. The interaction P values for the elderly and low weight patients did not reach statistical significan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B3D2-ED55-4911-BC3F-7A3FF97057FE}" type="slidenum">
              <a:rPr b="0" lang="nl-NL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28A2-982D-4840-8ADE-B32C55266704}" type="slidenum">
              <a:rPr b="0" lang="nl-NL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UITY compared three different pharmacological approaches in intermediate to high-risk patients with NSTE-ACS planned for invasive strategy and revascularisation whenever possible. These we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ntional anticoagulant plus GP IIb/IIIa inhibi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valirudin plus GP IIb/IIIa inhibi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valirudin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rimary endpoint was a composite of ischemic events and bleeding complications. The composite endpoint was significantly reduced with bivalirudin alone as compared patients treated with any combination of anticoagulants and GP IIb/IIIa inhibitors. This result was achieved thanks to a significant risk reduction for major blee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rary to Oasis-5, the risk reduction for bleeding had no impact on ischemic risk, death, MI or stroke at 30 days or 6 months (recently published dat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C70C-6235-468A-8774-75BC290E8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0C88-8F6B-42F1-A0CA-9712F0C0638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AF5D-7A52-479C-9965-72F4020BE9F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CB4F-49DB-4B6B-B7B0-921CB4E11B5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09CC-9FFF-4FD7-AC5C-292AC48E4B8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0044-9BB5-47F7-8E97-0B68B9BAE28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C8AD0-C49E-4973-9923-4D8595326E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70CD-3E29-4A6D-A8CC-388B54EE972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864A-008F-4130-B371-23A61284B02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E7BD-199E-40D5-BAD2-CCAC0FC2E28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B2AD-8F5A-4B49-8AAB-2B6C97BED1C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1123-D22C-45B5-865D-D306F71DCB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16E13-DBD6-449D-9F67-C296300FC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0374B-8523-442E-9F9E-8009DED2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0385-EBAD-472F-A343-B18B33263C0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3A6B7-1D50-46A7-847F-8C0AF45A61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C3A8-A7EF-4BD4-9C83-A6A79C1931E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BF6D5-918A-4F15-9F03-B39EB6AA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727E7-560F-4C87-8949-93FA0CF5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26D99-61C6-4E8B-91BD-0E0628A6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D9558-C7E6-4407-A90D-580EA172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B7363-9365-44AC-A51B-F88D2A6D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7292F-B4C4-4CA3-B9A5-3BA670C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CE56-DD55-47AB-9E78-F6066DFB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D84E-3139-495D-82E7-DBF9287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CA5C-DADE-4675-9521-BB1C9A4C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2B11-DFF1-4129-B79B-BCEA8944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65C5F-ACA9-4BE7-99A9-C247EBE3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C6A6-3D24-4192-B574-0272060D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08C3-B32F-414E-9757-31F6E6BC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5E9B-2CF4-4697-A518-14C1D1919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8809D-9AA8-4B98-8A8C-266AF14F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42C5-29C0-4D97-AC8D-038EC3E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6F77A-3A3D-48C2-87D3-632E4841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D0BF-D63C-4144-A8F3-48264262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29238-A3EC-4D22-8FFB-3A763EC3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B52DA-E20D-4E77-8600-151EECB3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F551A-9872-4C68-9DB5-D5C3B2A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95E89-25FB-439B-908E-4C282651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87AD3-8674-4920-9062-B8F8EB51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9212A-484A-4A40-8D1D-9BCE8570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2476B-4C21-464E-860F-4F50C6B0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24C08-2492-49E2-B78C-560A8FD8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307A5-EE85-45EC-A20A-C2C0BDF1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EDE22-B0B8-49CD-8DC9-0705D26B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6DF8C-C0BB-49D2-A25F-76F588FD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CE7A-E0B9-40B7-BD1F-22C588C141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38421-42E2-4057-BB2A-2BABA3A7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BEBF0-3A4C-478B-857D-47DE9D9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CB42A-F2A1-413F-BAE0-B11924E5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35D8D-3B3D-482A-BEDE-CD68CF30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DD52D-31D2-4BCC-A637-1A899970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99F37-3958-45AB-9CF6-6FD57604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73E07-8CC6-456E-8EB2-B90DF8CE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3F11-5249-4234-A26A-079F7F6E22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813C9-3BA0-41C1-B7F7-61D34167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9353-B771-425E-8491-277EAFF534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1FBB5-2ABF-492B-BD55-B3884CC2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87735-4D47-42EE-8F00-44105CF0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4DEB5-CB85-447A-AB7C-9A87C166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F7454-C5BE-4A64-8FC9-1EBC9B6A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B089E-3CF0-4C5C-BE5F-10B5EEE2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F9525-83DC-4284-BFA8-14769892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6FFA0-0729-45F4-884B-B3BDBB15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23FB9-2D3D-48F6-9A5B-EB39A7C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5697F-A91A-4E7B-8DA6-35C0E34F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65D30-F2BE-4EA6-A714-FE6E2CF2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8387-5B43-42E5-BC96-AC5FF94665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A932F-23C3-4FC9-A94B-60DA403D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FE4B-AC03-4319-9E69-199CF9EE16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9DF5-56AF-4E45-9B51-938117AEED8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57AA-32B4-4EC6-AF88-919E5B8D8A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www.escardio.org/guidelines" TargetMode="External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tAntonius_ziekenhuis_RGB"/>
          <p:cNvPicPr/>
          <p:nvPr/>
        </p:nvPicPr>
        <p:blipFill>
          <a:blip r:embed="rId2"/>
          <a:srcRect l="0" t="0" r="-2854" b="1563"/>
          <a:stretch/>
        </p:blipFill>
        <p:spPr>
          <a:xfrm>
            <a:off x="7662960" y="6313320"/>
            <a:ext cx="1481040" cy="54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1" marL="26496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2" marL="538200" indent="-27144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3" marL="811080" indent="-27144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4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5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6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83840" y="6588000"/>
            <a:ext cx="12430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f265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Times New Roman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Times New Roman"/>
              </a:rPr>
              <a:t>|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19160" y="6588000"/>
            <a:ext cx="2095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f265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DD94-F2C7-49F3-B58F-693FD935BDD2}" type="slidenum">
              <a:rPr b="0" lang="nl-NL" sz="900" spc="-1" strike="noStrike">
                <a:solidFill>
                  <a:srgbClr val="f265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185760" y="255600"/>
            <a:ext cx="8772480" cy="320760"/>
          </a:xfrm>
          <a:prstGeom prst="pie">
            <a:avLst/>
          </a:prstGeom>
          <a:solidFill>
            <a:srgbClr val="f26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2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29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2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2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2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2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2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</p:txBody>
      </p:sp>
      <p:pic>
        <p:nvPicPr>
          <p:cNvPr id="363" name="Picture 4" descr="New_ESC_BGV1_cut"/>
          <p:cNvPicPr/>
          <p:nvPr/>
        </p:nvPicPr>
        <p:blipFill>
          <a:blip r:embed="rId2"/>
          <a:stretch/>
        </p:blipFill>
        <p:spPr>
          <a:xfrm>
            <a:off x="0" y="620244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76320" y="6276960"/>
            <a:ext cx="8305560" cy="79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ESC Guidelines for the Management of NSTE-ACS </a:t>
            </a:r>
            <a:fld id="{4E6426B6-F688-4DF5-83F4-7874709803D5}" type="slidenum">
              <a:rPr b="0" i="1" lang="en-US" sz="2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/103</a:t>
            </a:r>
            <a:endParaRPr b="0" lang="en-US" sz="23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2"/>
          </p:nvPr>
        </p:nvSpPr>
        <p:spPr>
          <a:xfrm>
            <a:off x="697500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A745-707B-4FD5-9F50-3492F70CF952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2"/>
          <a:stretch/>
        </p:blipFill>
        <p:spPr>
          <a:xfrm>
            <a:off x="157320" y="114480"/>
            <a:ext cx="218412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1186920" y="1644120"/>
            <a:ext cx="6704280" cy="4321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165240" rIns="165240" tIns="155520" bIns="155520" anchor="ctr" anchorCtr="1">
            <a:normAutofit fontScale="99000"/>
          </a:bodyPr>
          <a:p>
            <a:pPr marL="337680" indent="-337680">
              <a:spcBef>
                <a:spcPts val="1624"/>
              </a:spcBef>
              <a:buClr>
                <a:srgbClr val="e5405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6240">
              <a:spcBef>
                <a:spcPts val="1624"/>
              </a:spcBef>
              <a:buClr>
                <a:srgbClr val="6b6bce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439560" y="685440"/>
            <a:ext cx="8264880" cy="5619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68560" y="151920"/>
            <a:ext cx="6502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7908840" y="6431040"/>
            <a:ext cx="122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1644480" y="1279440"/>
            <a:ext cx="16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1509840" y="1630440"/>
            <a:ext cx="163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50000">
              <a:srgbClr val="0000a0"/>
            </a:gs>
            <a:gs pos="100000">
              <a:srgbClr val="00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1398600" y="1314360"/>
            <a:ext cx="6531120" cy="3638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000" rIns="45720" tIns="9144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1137"/>
              </a:spcBef>
              <a:buClr>
                <a:srgbClr val="cc0000"/>
              </a:buClr>
              <a:buSzPct val="68000"/>
              <a:buFont typeface="Arial Black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440" indent="-342360">
              <a:lnSpc>
                <a:spcPct val="95000"/>
              </a:lnSpc>
              <a:spcBef>
                <a:spcPts val="1137"/>
              </a:spcBef>
              <a:buClr>
                <a:srgbClr val="6b6bce"/>
              </a:buClr>
              <a:buSzPct val="68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6160" indent="-229320">
              <a:lnSpc>
                <a:spcPct val="95000"/>
              </a:lnSpc>
              <a:spcBef>
                <a:spcPts val="1137"/>
              </a:spcBef>
              <a:buClr>
                <a:srgbClr val="ffba3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94160" indent="-169920">
              <a:lnSpc>
                <a:spcPct val="95000"/>
              </a:lnSpc>
              <a:spcBef>
                <a:spcPts val="1137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lnSpc>
                <a:spcPct val="95000"/>
              </a:lnSpc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lnSpc>
                <a:spcPct val="95000"/>
              </a:lnSpc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lnSpc>
                <a:spcPct val="95000"/>
              </a:lnSpc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0" y="0"/>
            <a:ext cx="9144000" cy="1020600"/>
          </a:xfrm>
          <a:prstGeom prst="rect">
            <a:avLst/>
          </a:prstGeom>
          <a:gradFill rotWithShape="0">
            <a:gsLst>
              <a:gs pos="0">
                <a:srgbClr val="2e2e2e"/>
              </a:gs>
              <a:gs pos="50000">
                <a:srgbClr val="646464">
                  <a:alpha val="81176"/>
                </a:srgbClr>
              </a:gs>
              <a:gs pos="100000">
                <a:srgbClr val="2e2e2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22" name="Line 15"/>
          <p:cNvSpPr/>
          <p:nvPr/>
        </p:nvSpPr>
        <p:spPr>
          <a:xfrm>
            <a:off x="0" y="10382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1412640" y="475920"/>
            <a:ext cx="7731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fd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8ffdb"/>
              </a:solidFill>
              <a:latin typeface="Arial"/>
            </a:endParaRPr>
          </a:p>
        </p:txBody>
      </p:sp>
      <p:pic>
        <p:nvPicPr>
          <p:cNvPr id="524" name="Picture 16" descr=""/>
          <p:cNvPicPr/>
          <p:nvPr/>
        </p:nvPicPr>
        <p:blipFill>
          <a:blip r:embed="rId2"/>
          <a:stretch/>
        </p:blipFill>
        <p:spPr>
          <a:xfrm>
            <a:off x="38160" y="63360"/>
            <a:ext cx="1495440" cy="870120"/>
          </a:xfrm>
          <a:prstGeom prst="rect">
            <a:avLst/>
          </a:prstGeom>
          <a:ln w="12600">
            <a:solidFill>
              <a:srgbClr val="777777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25" name="Line 19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3" name="Picture 3" descr="StAntonius_ziekenhuis_RGB"/>
            <p:cNvPicPr/>
            <p:nvPr/>
          </p:nvPicPr>
          <p:blipFill>
            <a:blip r:embed="rId2"/>
            <a:srcRect l="0" t="0" r="-566" b="0"/>
            <a:stretch/>
          </p:blipFill>
          <p:spPr>
            <a:xfrm>
              <a:off x="6583680" y="5878440"/>
              <a:ext cx="255996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4" descr="mainpage_orange_screen"/>
            <p:cNvPicPr/>
            <p:nvPr/>
          </p:nvPicPr>
          <p:blipFill>
            <a:blip r:embed="rId3"/>
            <a:srcRect l="47" t="1924" r="128" b="29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7" descr="santeonlogo-150-pr-voor-powerpoint"/>
          <p:cNvPicPr/>
          <p:nvPr/>
        </p:nvPicPr>
        <p:blipFill>
          <a:blip r:embed="rId4"/>
          <a:stretch/>
        </p:blipFill>
        <p:spPr>
          <a:xfrm>
            <a:off x="0" y="6153120"/>
            <a:ext cx="800280" cy="7048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1" marL="26496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2" marL="538200" indent="-27144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3" marL="811080" indent="-27144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4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5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6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0840" y="0"/>
            <a:ext cx="7696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324080" y="1600200"/>
            <a:ext cx="73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0"/>
          <p:cNvSpPr/>
          <p:nvPr/>
        </p:nvSpPr>
        <p:spPr>
          <a:xfrm>
            <a:off x="0" y="981000"/>
            <a:ext cx="9144000" cy="3672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643" name="Picture 7" descr="PHRI Logo"/>
          <p:cNvPicPr/>
          <p:nvPr/>
        </p:nvPicPr>
        <p:blipFill>
          <a:blip r:embed="rId2"/>
          <a:srcRect l="0" t="0" r="52964" b="38199"/>
          <a:stretch/>
        </p:blipFill>
        <p:spPr>
          <a:xfrm>
            <a:off x="8070840" y="5783400"/>
            <a:ext cx="1015920" cy="10033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448080" cy="40932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F40D-2626-4493-8296-978D5095D4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4D1C-6676-4FE7-8D11-DE5DCFAD3E7A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86AD-BCA1-4581-908E-77D96BD8C999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9FE-C967-4A1D-A6B8-C3ABC4819DC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20840" y="0"/>
            <a:ext cx="7696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324080" y="1600200"/>
            <a:ext cx="73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rcRect l="4167" t="0" r="53198" b="0"/>
          <a:stretch/>
        </p:blipFill>
        <p:spPr>
          <a:xfrm>
            <a:off x="0" y="0"/>
            <a:ext cx="3898800" cy="1136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03360" y="-360"/>
            <a:ext cx="494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8DED-8D4A-49C7-A9D7-832EFE37F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6480" y="221760"/>
            <a:ext cx="73310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814"/>
              </a:spcAft>
              <a:buClr>
                <a:srgbClr val="d0004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97120" indent="-285840">
              <a:spcAft>
                <a:spcPts val="814"/>
              </a:spcAft>
              <a:buClr>
                <a:srgbClr val="d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419120" indent="-268560">
              <a:spcAft>
                <a:spcPts val="814"/>
              </a:spcAft>
              <a:buClr>
                <a:srgbClr val="d0004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3" marL="1973880" indent="-285840">
              <a:spcAft>
                <a:spcPts val="814"/>
              </a:spcAft>
              <a:buClr>
                <a:srgbClr val="d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4" marL="2487960" indent="-271800">
              <a:spcAft>
                <a:spcPts val="814"/>
              </a:spcAft>
              <a:buClr>
                <a:srgbClr val="d0004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5" marL="2487960" indent="-271800">
              <a:spcAft>
                <a:spcPts val="814"/>
              </a:spcAft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6" marL="2487960" indent="-271800">
              <a:spcAft>
                <a:spcPts val="814"/>
              </a:spcAft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6" name="Picture 5" descr="Module_web_NEW_NEW"/>
          <p:cNvPicPr/>
          <p:nvPr/>
        </p:nvPicPr>
        <p:blipFill>
          <a:blip r:embed="rId3"/>
          <a:stretch/>
        </p:blipFill>
        <p:spPr>
          <a:xfrm>
            <a:off x="157320" y="6289560"/>
            <a:ext cx="2815920" cy="4809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>
            <a:hlinkClick r:id="rId4"/>
          </p:cNvPr>
          <p:cNvSpPr/>
          <p:nvPr/>
        </p:nvSpPr>
        <p:spPr>
          <a:xfrm>
            <a:off x="412920" y="6347160"/>
            <a:ext cx="2303280" cy="245160"/>
          </a:xfrm>
          <a:custGeom>
            <a:avLst/>
            <a:gdLst>
              <a:gd name="textAreaLeft" fmla="*/ 15840 w 2303280"/>
              <a:gd name="textAreaRight" fmla="*/ 2287440 w 2303280"/>
              <a:gd name="textAreaTop" fmla="*/ 15840 h 245160"/>
              <a:gd name="textAreaBottom" fmla="*/ 229320 h 245160"/>
            </a:gdLst>
            <a:ahLst/>
            <a:rect l="textAreaLeft" t="textAreaTop" r="textAreaRight" b="textAreaBottom"/>
            <a:pathLst>
              <a:path w="202666" h="21600">
                <a:moveTo>
                  <a:pt x="0" y="0"/>
                </a:moveTo>
                <a:lnTo>
                  <a:pt x="202666" y="0"/>
                </a:lnTo>
                <a:lnTo>
                  <a:pt x="202666" y="21600"/>
                </a:lnTo>
                <a:lnTo>
                  <a:pt x="0" y="21600"/>
                </a:lnTo>
                <a:close/>
              </a:path>
              <a:path fill="lightenLess" w="202666" h="21600">
                <a:moveTo>
                  <a:pt x="0" y="0"/>
                </a:moveTo>
                <a:lnTo>
                  <a:pt x="202666" y="0"/>
                </a:lnTo>
                <a:lnTo>
                  <a:pt x="201266" y="1400"/>
                </a:lnTo>
                <a:lnTo>
                  <a:pt x="1400" y="1400"/>
                </a:lnTo>
                <a:close/>
              </a:path>
              <a:path fill="darken" w="202666" h="21600">
                <a:moveTo>
                  <a:pt x="202666" y="0"/>
                </a:moveTo>
                <a:lnTo>
                  <a:pt x="202666" y="21600"/>
                </a:lnTo>
                <a:lnTo>
                  <a:pt x="201266" y="20200"/>
                </a:lnTo>
                <a:lnTo>
                  <a:pt x="201266" y="1400"/>
                </a:lnTo>
                <a:close/>
              </a:path>
              <a:path fill="darkenLess" w="202666" h="21600">
                <a:moveTo>
                  <a:pt x="202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1266" y="20200"/>
                </a:lnTo>
                <a:close/>
              </a:path>
              <a:path fill="lighten" w="202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www.escardio.org/guidelines</a:t>
            </a:r>
            <a:endParaRPr b="0" lang="en-US" sz="14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485640" y="1006200"/>
            <a:ext cx="805824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Aft>
                <a:spcPts val="499"/>
              </a:spcAft>
              <a:buClr>
                <a:srgbClr val="f0ad2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57400">
              <a:spcAft>
                <a:spcPts val="499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9640" indent="-266760">
              <a:spcAft>
                <a:spcPts val="499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270000">
              <a:spcAft>
                <a:spcPts val="499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52520" indent="-270000">
              <a:spcAft>
                <a:spcPts val="499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52520" indent="-270000">
              <a:spcAft>
                <a:spcPts val="499"/>
              </a:spcAft>
              <a:buClr>
                <a:srgbClr val="29292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52520" indent="-270000">
              <a:spcAft>
                <a:spcPts val="499"/>
              </a:spcAft>
              <a:buClr>
                <a:srgbClr val="29292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95000" y="152280"/>
            <a:ext cx="8048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206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247" name="Picture 96" descr="PLATO_LOGO"/>
          <p:cNvPicPr/>
          <p:nvPr/>
        </p:nvPicPr>
        <p:blipFill>
          <a:blip r:embed="rId2"/>
          <a:stretch/>
        </p:blipFill>
        <p:spPr>
          <a:xfrm>
            <a:off x="7677000" y="6480"/>
            <a:ext cx="1454400" cy="501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8"/>
          <p:cNvSpPr/>
          <p:nvPr/>
        </p:nvSpPr>
        <p:spPr>
          <a:xfrm>
            <a:off x="7369200" y="45072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BG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621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04600" y="1600200"/>
            <a:ext cx="773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186920" y="1644120"/>
            <a:ext cx="6704280" cy="4321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65240" rIns="165240" tIns="155520" bIns="155520" anchor="ctr" anchorCtr="1">
            <a:normAutofit fontScale="99000"/>
          </a:bodyPr>
          <a:p>
            <a:pPr marL="337680" indent="-337680">
              <a:spcBef>
                <a:spcPts val="1624"/>
              </a:spcBef>
              <a:buClr>
                <a:srgbClr val="e5405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6240">
              <a:spcBef>
                <a:spcPts val="1624"/>
              </a:spcBef>
              <a:buClr>
                <a:srgbClr val="6b6bce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39560" y="685800"/>
            <a:ext cx="8264880" cy="628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2533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JM ten Berg, St Antonius Hospita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94" name="Rechthoek 3"/>
          <p:cNvSpPr/>
          <p:nvPr/>
        </p:nvSpPr>
        <p:spPr>
          <a:xfrm>
            <a:off x="304920" y="1981080"/>
            <a:ext cx="86868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Elderly ACS patients: a special case? </a:t>
            </a:r>
            <a:endParaRPr b="0" lang="en-US" sz="4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4"/>
          <p:cNvSpPr/>
          <p:nvPr/>
        </p:nvSpPr>
        <p:spPr>
          <a:xfrm>
            <a:off x="689760" y="834120"/>
            <a:ext cx="7764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  </a:t>
            </a:r>
            <a:r>
              <a:rPr b="0" lang="en-US" sz="32400" spc="-1" strike="noStrike">
                <a:solidFill>
                  <a:srgbClr val="656667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&lt;&gt; 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33" name="Picture 5" descr="Slide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41360" y="685800"/>
            <a:ext cx="8254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Independant hazard of major bleed and MI within 30 days and subsequent mortality within 1 year </a:t>
            </a:r>
            <a:br>
              <a:rPr sz="2000"/>
            </a:b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Mehran et al, 1742 pts </a:t>
            </a:r>
            <a:endParaRPr b="1" lang="en-US" sz="2000" spc="-1" strike="noStrike">
              <a:solidFill>
                <a:srgbClr val="f26522"/>
              </a:solidFill>
              <a:latin typeface="Arial"/>
            </a:endParaRPr>
          </a:p>
        </p:txBody>
      </p:sp>
      <p:pic>
        <p:nvPicPr>
          <p:cNvPr id="736" name="Picture 4" descr=""/>
          <p:cNvPicPr/>
          <p:nvPr/>
        </p:nvPicPr>
        <p:blipFill>
          <a:blip r:embed="rId1"/>
          <a:srcRect l="24401" t="20477" r="6510" b="27118"/>
          <a:stretch/>
        </p:blipFill>
        <p:spPr>
          <a:xfrm>
            <a:off x="990720" y="2243160"/>
            <a:ext cx="7223040" cy="38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6522"/>
                </a:solidFill>
                <a:latin typeface="Arial"/>
              </a:rPr>
              <a:t>How Might Bleeding Increase Long-Term Mortality?</a:t>
            </a:r>
            <a:endParaRPr b="1" lang="en-US" sz="28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44600" y="2042640"/>
            <a:ext cx="8254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Hemodynamic compromise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Hyperadrenergic state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ransfusion-induced microcirculatory disorder, NO depletion, immunologic effects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Inflammatory response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Discontinuation of antithrombotics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9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705720" cy="1165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ba3e"/>
                </a:solidFill>
                <a:latin typeface="Arial"/>
              </a:rPr>
              <a:t>Bleeding (Day 1) and Subsequent Antithrombotic Use</a:t>
            </a:r>
            <a:r>
              <a:rPr b="1" lang="en-GB" sz="2800" spc="-1" strike="noStrike">
                <a:solidFill>
                  <a:srgbClr val="ffba3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1523880" y="2590920"/>
            <a:ext cx="60962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Med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Bleed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     No bleed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ASA 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69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86% 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thien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50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51%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UFH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36%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LMWH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26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GPIIb/IIIa 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2" name="Line 5"/>
          <p:cNvSpPr/>
          <p:nvPr/>
        </p:nvSpPr>
        <p:spPr>
          <a:xfrm flipV="1">
            <a:off x="1523880" y="3078000"/>
            <a:ext cx="5486400" cy="46080"/>
          </a:xfrm>
          <a:prstGeom prst="line">
            <a:avLst/>
          </a:prstGeom>
          <a:ln w="28440">
            <a:solidFill>
              <a:srgbClr val="ffb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2895480" y="1600200"/>
            <a:ext cx="3810240" cy="360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ba3e"/>
                </a:solidFill>
                <a:latin typeface="Arial"/>
              </a:rPr>
              <a:t>Use of Meds After Bleed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4" name="Text Box 7"/>
          <p:cNvSpPr/>
          <p:nvPr/>
        </p:nvSpPr>
        <p:spPr>
          <a:xfrm>
            <a:off x="5965560" y="61405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56667"/>
                </a:solidFill>
                <a:latin typeface="Arial"/>
              </a:rPr>
              <a:t>Spencer Circ 2007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304920" y="228600"/>
          <a:ext cx="165240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6524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380880" y="762120"/>
            <a:ext cx="8264520" cy="3511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4aaa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 can be done to reduce bleeding?</a:t>
            </a:r>
            <a:endParaRPr b="0" lang="en-US" sz="4400" spc="-1" strike="noStrike">
              <a:solidFill>
                <a:srgbClr val="656667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667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2d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222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2d2222"/>
                </a:solidFill>
                <a:latin typeface="Arial"/>
                <a:ea typeface="ＭＳ Ｐゴシック"/>
              </a:rPr>
              <a:t>When invasive use radial</a:t>
            </a:r>
            <a:endParaRPr b="0" lang="en-US" sz="3600" spc="-1" strike="noStrike">
              <a:solidFill>
                <a:srgbClr val="656667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2d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222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2d2222"/>
                </a:solidFill>
                <a:latin typeface="Arial"/>
                <a:ea typeface="ＭＳ Ｐゴシック"/>
              </a:rPr>
              <a:t>Avoid overdose</a:t>
            </a:r>
            <a:endParaRPr b="0" lang="en-US" sz="36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49" name="Afbeelding 7" descr="Unknownx.jpg"/>
          <p:cNvPicPr/>
          <p:nvPr/>
        </p:nvPicPr>
        <p:blipFill>
          <a:blip r:embed="rId1"/>
          <a:stretch/>
        </p:blipFill>
        <p:spPr>
          <a:xfrm>
            <a:off x="6819840" y="2819520"/>
            <a:ext cx="2324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93880" y="279360"/>
            <a:ext cx="7354800" cy="1098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Avoid Excessive Dosing of Anticoagulants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pic>
        <p:nvPicPr>
          <p:cNvPr id="751" name="Object 2" descr=""/>
          <p:cNvPicPr/>
          <p:nvPr/>
        </p:nvPicPr>
        <p:blipFill>
          <a:blip r:embed="rId1"/>
          <a:stretch/>
        </p:blipFill>
        <p:spPr>
          <a:xfrm>
            <a:off x="157320" y="1203480"/>
            <a:ext cx="8493120" cy="49813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4" descr="Crusade Logo Shield"/>
          <p:cNvPicPr/>
          <p:nvPr/>
        </p:nvPicPr>
        <p:blipFill>
          <a:blip r:embed="rId2"/>
          <a:stretch/>
        </p:blipFill>
        <p:spPr>
          <a:xfrm>
            <a:off x="0" y="0"/>
            <a:ext cx="990720" cy="98748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5"/>
          <p:cNvSpPr/>
          <p:nvPr/>
        </p:nvSpPr>
        <p:spPr>
          <a:xfrm>
            <a:off x="304200" y="623268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56667"/>
                </a:solidFill>
                <a:latin typeface="Arial"/>
              </a:rPr>
              <a:t>-- Alexander JAMA 2005;294:3108-311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2527200" y="1600200"/>
            <a:ext cx="2608560" cy="337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42% of patients got excess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55" name="Tekstvak 7"/>
          <p:cNvSpPr/>
          <p:nvPr/>
        </p:nvSpPr>
        <p:spPr>
          <a:xfrm>
            <a:off x="6106320" y="525780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&lt;65     &gt;65     &gt;75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ase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A 78-year-old woman presents with non-ST elevation MI. Physical examination and lab tests reveal the following: hematocrit, 35%; creatinine clearance, 55 mL/min; heart rate, 90 beats per minute; blood pressure 100/60 mm Hg, 74 kg. She has type 2 diabetes but no vascular history or previous heart failure.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1: how do you estimate her bleeding risk according to ESC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guidelines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. GRACE risk score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b. TIMI bleeding risk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c. CRUSADE score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Q2: which of her characteristics define the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bleeding risk?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a. Age, Hct, GFR, blood pressure, pulse, DM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b. Hct, GFR, blood pressure, pulse, DM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c. GFR, blood pressure, pulse, DM 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60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Q3: what is her estimated bleeding risk in %?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a. 2%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b. 30%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c. 15%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63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RUSADE case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65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66" name="Tijdelijke aanduiding voor inhoud 6" descr="Schermafbeelding 2013-04-16 om 21.28.46.png"/>
          <p:cNvPicPr/>
          <p:nvPr/>
        </p:nvPicPr>
        <p:blipFill>
          <a:blip r:embed="rId1"/>
          <a:stretch/>
        </p:blipFill>
        <p:spPr>
          <a:xfrm>
            <a:off x="609480" y="1432080"/>
            <a:ext cx="79502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Disclosures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96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2d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d2222"/>
                </a:solidFill>
                <a:uFillTx/>
                <a:latin typeface="Arial"/>
              </a:rPr>
              <a:t>JM ten Berg reported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Speakers fee and consultancy: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AstraZenica, Eli Lilly / Daiichi Sankyo, MSD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Accumetrics </a:t>
            </a:r>
            <a:r>
              <a:rPr b="1" lang="nl-NL" sz="2800" spc="-1" strike="noStrike">
                <a:solidFill>
                  <a:srgbClr val="2d222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Tijdelijke aanduiding voor inhoud 4" descr="Schermafbeelding 2013-04-18 om 21.42.25.png"/>
          <p:cNvPicPr/>
          <p:nvPr/>
        </p:nvPicPr>
        <p:blipFill>
          <a:blip r:embed="rId1"/>
          <a:stretch/>
        </p:blipFill>
        <p:spPr>
          <a:xfrm>
            <a:off x="888840" y="838080"/>
            <a:ext cx="7417080" cy="3353040"/>
          </a:xfrm>
          <a:prstGeom prst="rect">
            <a:avLst/>
          </a:prstGeom>
          <a:ln w="0">
            <a:noFill/>
          </a:ln>
        </p:spPr>
      </p:pic>
      <p:sp>
        <p:nvSpPr>
          <p:cNvPr id="768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69" name="Tekstvak 5"/>
          <p:cNvSpPr/>
          <p:nvPr/>
        </p:nvSpPr>
        <p:spPr>
          <a:xfrm>
            <a:off x="838080" y="4495680"/>
            <a:ext cx="76201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65666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656667"/>
                </a:solidFill>
                <a:latin typeface="Arial"/>
              </a:rPr>
              <a:t>In the CRUSADE bleeding risk score, age is no independent predictor after covariate adjustment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5666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656667"/>
                </a:solidFill>
                <a:latin typeface="Arial"/>
              </a:rPr>
              <a:t>It highlights the importance of anemia and renal failure, which are more common in elderly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5666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656667"/>
                </a:solidFill>
                <a:latin typeface="Arial"/>
              </a:rPr>
              <a:t>On a scale from 1-100, Hct 35% adds 8 points to the score, while creatine clearance 55 ml/min is associated with 28 points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ase II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71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n 80-year-old diabetic woman presents with NONSTEMI; blood pressure 130/70, pulse 80/min, weight 55 kilo’s, her calculated glomerular filtration rate is 40 mL/min. How should the antithrombotic therapy be managed in this patient (assuming no other contraindications)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. Aspirin leads to bleeding thus in elderly: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. No aspirin, only thienopyridine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b. No loading dose, start 75 mg per day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c. Loading dose of 300 mg, followed by low dose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73" name="Afbeelding 5" descr="images4.jpg"/>
          <p:cNvPicPr/>
          <p:nvPr/>
        </p:nvPicPr>
        <p:blipFill>
          <a:blip r:embed="rId1"/>
          <a:stretch/>
        </p:blipFill>
        <p:spPr>
          <a:xfrm>
            <a:off x="6400800" y="47242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ASPIRIN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04920" y="1523880"/>
            <a:ext cx="8254800" cy="31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240120" indent="-2401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56667"/>
                </a:solidFill>
                <a:latin typeface="Arial"/>
              </a:rPr>
              <a:t>Recent registry data demonstrate that a loading dose of ≥ 300 mg was safe and not associated with an increase in bleeding or transfusion among 791 patients with acute MI ≥ 75 years old, some of whom received fibrinolytics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Large databases (Medicare) demonstrate a similar reduction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in mortality following MI in patients over 65 yrs of age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ACC/AHA and ESC guidelines support initial use of loading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dose followed by low dose aspirin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Several studies have demonstrated in increase in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bleeding risk (most GI, intracranial uncommon);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however this risk, although minimal, increases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in the elderly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76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77" name="Afbeelding 5" descr="images5.jpg"/>
          <p:cNvPicPr/>
          <p:nvPr/>
        </p:nvPicPr>
        <p:blipFill>
          <a:blip r:embed="rId1"/>
          <a:stretch/>
        </p:blipFill>
        <p:spPr>
          <a:xfrm>
            <a:off x="6858000" y="502920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ase II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79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n 80-year-old diabetic woman presents with NONSTEMI; blood pressure 130/70, pulse 80/min, weight 55 kilo’s, her calculated glomerular filtration rate is 40 mL/min. How should the antithrombotic therapy be managed in this patient (assuming no other contraindications and an invasive approach) 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. Clopidogrel, Prasugrel, Ticagrelor added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clopidogrel 150 mg/day 1 yr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Ticagrelor half dose/d 1 yr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Prasugrel 5 mg/d 1 yr  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81" name="Afbeelding 5" descr="images4.jpg"/>
          <p:cNvPicPr/>
          <p:nvPr/>
        </p:nvPicPr>
        <p:blipFill>
          <a:blip r:embed="rId1"/>
          <a:stretch/>
        </p:blipFill>
        <p:spPr>
          <a:xfrm>
            <a:off x="6400800" y="47242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Calibri"/>
              </a:rPr>
              <a:t>CKD and use of Prasugrel or Ticagrel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TRITON the reduction in the primary endpoint ( CV death, non-fatal MI, or non fatal stroke) with prasugrel compared to clopidogrel was independent of the presence of CK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PLATO, in 3237 patients with CKD (creatinine clearance &lt;60 ml/L) ticagrelor reduced the primary endpoint (cardiovascular death, myocardial infarction, stroke) to 17.3% from 22.0% (HR 0.77, 95% CI0.65-0.90). This reduction was greater than that observed in patients with normal renal function (7.9% versus 8.9%, HR 0.90, 95% CI: 0.79-1.02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4" name="Afbeelding 4" descr="images4.jpg"/>
          <p:cNvPicPr/>
          <p:nvPr/>
        </p:nvPicPr>
        <p:blipFill>
          <a:blip r:embed="rId1"/>
          <a:stretch/>
        </p:blipFill>
        <p:spPr>
          <a:xfrm>
            <a:off x="6400800" y="48769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14"/>
          <p:cNvSpPr/>
          <p:nvPr/>
        </p:nvSpPr>
        <p:spPr>
          <a:xfrm>
            <a:off x="843120" y="1409760"/>
            <a:ext cx="7937280" cy="3556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graphicFrame>
        <p:nvGraphicFramePr>
          <p:cNvPr id="786" name="Object 3"/>
          <p:cNvGraphicFramePr/>
          <p:nvPr/>
        </p:nvGraphicFramePr>
        <p:xfrm>
          <a:off x="353880" y="946080"/>
          <a:ext cx="86727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946080"/>
                    <a:ext cx="86727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203360" y="-360"/>
            <a:ext cx="49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eeding Events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afety Cohort</a:t>
            </a:r>
            <a:br>
              <a:rPr sz="3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(N=13,457)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 rot="16200000">
            <a:off x="-960120" y="297648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Events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157320" y="5664240"/>
            <a:ext cx="29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.6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 1.32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03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NH=167  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878040" y="1595520"/>
            <a:ext cx="21564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2" name="Rectangle 11"/>
          <p:cNvSpPr/>
          <p:nvPr/>
        </p:nvSpPr>
        <p:spPr>
          <a:xfrm>
            <a:off x="878040" y="1913040"/>
            <a:ext cx="215640" cy="20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3" name="Text Box 12"/>
          <p:cNvSpPr/>
          <p:nvPr/>
        </p:nvSpPr>
        <p:spPr>
          <a:xfrm>
            <a:off x="858960" y="15159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lopidogrel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4" name="Text Box 13"/>
          <p:cNvSpPr/>
          <p:nvPr/>
        </p:nvSpPr>
        <p:spPr>
          <a:xfrm>
            <a:off x="884160" y="183672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asugrel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5" name="Line 16"/>
          <p:cNvSpPr/>
          <p:nvPr/>
        </p:nvSpPr>
        <p:spPr>
          <a:xfrm flipV="1">
            <a:off x="2417760" y="1434600"/>
            <a:ext cx="0" cy="361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6" name="Line 17"/>
          <p:cNvSpPr/>
          <p:nvPr/>
        </p:nvSpPr>
        <p:spPr>
          <a:xfrm flipV="1">
            <a:off x="4005360" y="1434600"/>
            <a:ext cx="0" cy="361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7" name="Text Box 21"/>
          <p:cNvSpPr/>
          <p:nvPr/>
        </p:nvSpPr>
        <p:spPr>
          <a:xfrm>
            <a:off x="1773360" y="5664240"/>
            <a:ext cx="29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.5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 1.52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01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8" name="Text Box 22"/>
          <p:cNvSpPr/>
          <p:nvPr/>
        </p:nvSpPr>
        <p:spPr>
          <a:xfrm>
            <a:off x="3467160" y="5664240"/>
            <a:ext cx="29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.2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23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9" name="Text Box 23"/>
          <p:cNvSpPr/>
          <p:nvPr/>
        </p:nvSpPr>
        <p:spPr>
          <a:xfrm>
            <a:off x="6585120" y="5664240"/>
            <a:ext cx="29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74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0" name="Text Box 24"/>
          <p:cNvSpPr/>
          <p:nvPr/>
        </p:nvSpPr>
        <p:spPr>
          <a:xfrm>
            <a:off x="4978440" y="5664240"/>
            <a:ext cx="29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.3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002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1" name="Text Box 25"/>
          <p:cNvSpPr/>
          <p:nvPr/>
        </p:nvSpPr>
        <p:spPr>
          <a:xfrm>
            <a:off x="6527880" y="1441440"/>
            <a:ext cx="29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CH in Pts w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or Stroke/TIA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=518)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2" name="Line 17"/>
          <p:cNvSpPr/>
          <p:nvPr/>
        </p:nvSpPr>
        <p:spPr>
          <a:xfrm flipV="1">
            <a:off x="5591160" y="1407600"/>
            <a:ext cx="0" cy="361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3" name="Line 17"/>
          <p:cNvSpPr/>
          <p:nvPr/>
        </p:nvSpPr>
        <p:spPr>
          <a:xfrm flipV="1">
            <a:off x="7165800" y="1407600"/>
            <a:ext cx="0" cy="361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4" name="Text Box 25"/>
          <p:cNvSpPr/>
          <p:nvPr/>
        </p:nvSpPr>
        <p:spPr>
          <a:xfrm>
            <a:off x="7337520" y="228132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Clop 0 (0)  %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as 6 (2.3)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(P=0.02)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203360" y="28080"/>
            <a:ext cx="49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Net Clinical Benefit</a:t>
            </a:r>
            <a:br>
              <a:rPr sz="2600"/>
            </a:b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Bleeding Risk Subgroups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820800" y="168264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7" name="Line 4"/>
          <p:cNvSpPr/>
          <p:nvPr/>
        </p:nvSpPr>
        <p:spPr>
          <a:xfrm flipV="1">
            <a:off x="1949400" y="1828800"/>
            <a:ext cx="1800" cy="417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8" name="Line 5"/>
          <p:cNvSpPr/>
          <p:nvPr/>
        </p:nvSpPr>
        <p:spPr>
          <a:xfrm flipV="1">
            <a:off x="4680000" y="1828800"/>
            <a:ext cx="1440" cy="417816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9" name="Line 6"/>
          <p:cNvSpPr/>
          <p:nvPr/>
        </p:nvSpPr>
        <p:spPr>
          <a:xfrm flipV="1">
            <a:off x="1949400" y="6006960"/>
            <a:ext cx="180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0" name="Line 7"/>
          <p:cNvSpPr/>
          <p:nvPr/>
        </p:nvSpPr>
        <p:spPr>
          <a:xfrm flipV="1">
            <a:off x="2660760" y="6006960"/>
            <a:ext cx="144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 flipV="1">
            <a:off x="3270240" y="6006960"/>
            <a:ext cx="144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2" name="Line 9"/>
          <p:cNvSpPr/>
          <p:nvPr/>
        </p:nvSpPr>
        <p:spPr>
          <a:xfrm flipV="1">
            <a:off x="3803760" y="6006960"/>
            <a:ext cx="144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3" name="Line 10"/>
          <p:cNvSpPr/>
          <p:nvPr/>
        </p:nvSpPr>
        <p:spPr>
          <a:xfrm flipV="1">
            <a:off x="4260960" y="6006960"/>
            <a:ext cx="144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4" name="Line 11"/>
          <p:cNvSpPr/>
          <p:nvPr/>
        </p:nvSpPr>
        <p:spPr>
          <a:xfrm flipV="1">
            <a:off x="4680000" y="6006960"/>
            <a:ext cx="144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5" name="Line 12"/>
          <p:cNvSpPr/>
          <p:nvPr/>
        </p:nvSpPr>
        <p:spPr>
          <a:xfrm flipV="1">
            <a:off x="7410600" y="6006960"/>
            <a:ext cx="144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6" name="Line 13"/>
          <p:cNvSpPr/>
          <p:nvPr/>
        </p:nvSpPr>
        <p:spPr>
          <a:xfrm flipV="1">
            <a:off x="1949400" y="6006600"/>
            <a:ext cx="1800" cy="12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7" name="Line 14"/>
          <p:cNvSpPr/>
          <p:nvPr/>
        </p:nvSpPr>
        <p:spPr>
          <a:xfrm flipV="1">
            <a:off x="4680000" y="6006600"/>
            <a:ext cx="1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8" name="Line 15"/>
          <p:cNvSpPr/>
          <p:nvPr/>
        </p:nvSpPr>
        <p:spPr>
          <a:xfrm flipV="1">
            <a:off x="7410600" y="6006600"/>
            <a:ext cx="1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9" name="Line 16"/>
          <p:cNvSpPr/>
          <p:nvPr/>
        </p:nvSpPr>
        <p:spPr>
          <a:xfrm flipV="1">
            <a:off x="1949400" y="1828800"/>
            <a:ext cx="1800" cy="417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0" name="Line 17"/>
          <p:cNvSpPr/>
          <p:nvPr/>
        </p:nvSpPr>
        <p:spPr>
          <a:xfrm>
            <a:off x="1949400" y="6006960"/>
            <a:ext cx="54612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1" name="Line 18"/>
          <p:cNvSpPr/>
          <p:nvPr/>
        </p:nvSpPr>
        <p:spPr>
          <a:xfrm flipH="1">
            <a:off x="3753000" y="5803920"/>
            <a:ext cx="723600" cy="1440"/>
          </a:xfrm>
          <a:prstGeom prst="line">
            <a:avLst/>
          </a:prstGeom>
          <a:ln w="12600">
            <a:solidFill>
              <a:srgbClr val="ff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2" name="Line 19"/>
          <p:cNvSpPr/>
          <p:nvPr/>
        </p:nvSpPr>
        <p:spPr>
          <a:xfrm flipH="1">
            <a:off x="3701520" y="5003640"/>
            <a:ext cx="685800" cy="18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3" name="Line 20"/>
          <p:cNvSpPr/>
          <p:nvPr/>
        </p:nvSpPr>
        <p:spPr>
          <a:xfrm flipH="1">
            <a:off x="3219480" y="4508640"/>
            <a:ext cx="3137040" cy="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4" name="Line 21"/>
          <p:cNvSpPr/>
          <p:nvPr/>
        </p:nvSpPr>
        <p:spPr>
          <a:xfrm flipH="1">
            <a:off x="3549600" y="3770280"/>
            <a:ext cx="889200" cy="18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5" name="Line 22"/>
          <p:cNvSpPr/>
          <p:nvPr/>
        </p:nvSpPr>
        <p:spPr>
          <a:xfrm flipH="1">
            <a:off x="3841560" y="3262320"/>
            <a:ext cx="1587240" cy="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6" name="Line 23"/>
          <p:cNvSpPr/>
          <p:nvPr/>
        </p:nvSpPr>
        <p:spPr>
          <a:xfrm flipH="1">
            <a:off x="3600000" y="2324160"/>
            <a:ext cx="787320" cy="1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7" name="Line 24"/>
          <p:cNvSpPr/>
          <p:nvPr/>
        </p:nvSpPr>
        <p:spPr>
          <a:xfrm flipH="1">
            <a:off x="4755960" y="1828800"/>
            <a:ext cx="3238200" cy="1440"/>
          </a:xfrm>
          <a:prstGeom prst="line">
            <a:avLst/>
          </a:prstGeom>
          <a:ln w="12600">
            <a:solidFill>
              <a:srgbClr val="ff3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8" name="Rectangle 25"/>
          <p:cNvSpPr/>
          <p:nvPr/>
        </p:nvSpPr>
        <p:spPr>
          <a:xfrm>
            <a:off x="4070520" y="5753160"/>
            <a:ext cx="12672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9" name="Rectangle 26"/>
          <p:cNvSpPr/>
          <p:nvPr/>
        </p:nvSpPr>
        <p:spPr>
          <a:xfrm>
            <a:off x="4019400" y="4940280"/>
            <a:ext cx="13968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0" name="Rectangle 27"/>
          <p:cNvSpPr/>
          <p:nvPr/>
        </p:nvSpPr>
        <p:spPr>
          <a:xfrm>
            <a:off x="4730760" y="4444920"/>
            <a:ext cx="12708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1" name="Rectangle 28"/>
          <p:cNvSpPr/>
          <p:nvPr/>
        </p:nvSpPr>
        <p:spPr>
          <a:xfrm>
            <a:off x="4578480" y="3211560"/>
            <a:ext cx="12672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2" name="Rectangle 29"/>
          <p:cNvSpPr/>
          <p:nvPr/>
        </p:nvSpPr>
        <p:spPr>
          <a:xfrm>
            <a:off x="3930480" y="2273400"/>
            <a:ext cx="12708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3" name="Rectangle 30"/>
          <p:cNvSpPr/>
          <p:nvPr/>
        </p:nvSpPr>
        <p:spPr>
          <a:xfrm>
            <a:off x="6318360" y="1765440"/>
            <a:ext cx="126720" cy="139680"/>
          </a:xfrm>
          <a:prstGeom prst="rect">
            <a:avLst/>
          </a:prstGeom>
          <a:solidFill>
            <a:srgbClr val="ff3b0a"/>
          </a:solidFill>
          <a:ln w="12600">
            <a:solidFill>
              <a:srgbClr val="ff3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4" name="Rectangle 31"/>
          <p:cNvSpPr/>
          <p:nvPr/>
        </p:nvSpPr>
        <p:spPr>
          <a:xfrm>
            <a:off x="1609200" y="566568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VERALL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5" name="Rectangle 32"/>
          <p:cNvSpPr/>
          <p:nvPr/>
        </p:nvSpPr>
        <p:spPr>
          <a:xfrm>
            <a:off x="1661400" y="4896000"/>
            <a:ext cx="8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=60 kg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6" name="Rectangle 33"/>
          <p:cNvSpPr/>
          <p:nvPr/>
        </p:nvSpPr>
        <p:spPr>
          <a:xfrm>
            <a:off x="1734480" y="440064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 60 kg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7" name="Rectangle 34"/>
          <p:cNvSpPr/>
          <p:nvPr/>
        </p:nvSpPr>
        <p:spPr>
          <a:xfrm>
            <a:off x="2064960" y="3662280"/>
            <a:ext cx="45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 75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8" name="Rectangle 35"/>
          <p:cNvSpPr/>
          <p:nvPr/>
        </p:nvSpPr>
        <p:spPr>
          <a:xfrm>
            <a:off x="1991880" y="315432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=75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9" name="Rectangle 36"/>
          <p:cNvSpPr/>
          <p:nvPr/>
        </p:nvSpPr>
        <p:spPr>
          <a:xfrm>
            <a:off x="2214360" y="221616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0" name="Rectangle 37"/>
          <p:cNvSpPr/>
          <p:nvPr/>
        </p:nvSpPr>
        <p:spPr>
          <a:xfrm>
            <a:off x="2106720" y="1720800"/>
            <a:ext cx="40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1" name="Rectangle 38"/>
          <p:cNvSpPr/>
          <p:nvPr/>
        </p:nvSpPr>
        <p:spPr>
          <a:xfrm>
            <a:off x="1854360" y="61657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2" name="Rectangle 39"/>
          <p:cNvSpPr/>
          <p:nvPr/>
        </p:nvSpPr>
        <p:spPr>
          <a:xfrm>
            <a:off x="4629240" y="6165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3" name="Rectangle 40"/>
          <p:cNvSpPr/>
          <p:nvPr/>
        </p:nvSpPr>
        <p:spPr>
          <a:xfrm>
            <a:off x="7416720" y="6165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4" name="Rectangle 41"/>
          <p:cNvSpPr/>
          <p:nvPr/>
        </p:nvSpPr>
        <p:spPr>
          <a:xfrm>
            <a:off x="359280" y="1890720"/>
            <a:ext cx="1335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ior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Stroke / TIA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5" name="Rectangle 42"/>
          <p:cNvSpPr/>
          <p:nvPr/>
        </p:nvSpPr>
        <p:spPr>
          <a:xfrm>
            <a:off x="811080" y="33559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6" name="Rectangle 43"/>
          <p:cNvSpPr/>
          <p:nvPr/>
        </p:nvSpPr>
        <p:spPr>
          <a:xfrm>
            <a:off x="808920" y="454356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gt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7" name="Rectangle 44"/>
          <p:cNvSpPr/>
          <p:nvPr/>
        </p:nvSpPr>
        <p:spPr>
          <a:xfrm>
            <a:off x="3809880" y="2158920"/>
            <a:ext cx="373320" cy="373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8" name="Rectangle 45"/>
          <p:cNvSpPr/>
          <p:nvPr/>
        </p:nvSpPr>
        <p:spPr>
          <a:xfrm>
            <a:off x="3827520" y="3562200"/>
            <a:ext cx="372960" cy="373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grpSp>
        <p:nvGrpSpPr>
          <p:cNvPr id="849" name="Group 46"/>
          <p:cNvGrpSpPr/>
          <p:nvPr/>
        </p:nvGrpSpPr>
        <p:grpSpPr>
          <a:xfrm>
            <a:off x="3719520" y="5641920"/>
            <a:ext cx="844200" cy="304560"/>
            <a:chOff x="3719520" y="5641920"/>
            <a:chExt cx="844200" cy="304560"/>
          </a:xfrm>
        </p:grpSpPr>
        <p:sp>
          <p:nvSpPr>
            <p:cNvPr id="850" name="Freeform 47"/>
            <p:cNvSpPr/>
            <p:nvPr/>
          </p:nvSpPr>
          <p:spPr>
            <a:xfrm>
              <a:off x="3732480" y="5641920"/>
              <a:ext cx="831240" cy="30456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51" name="Freeform 48"/>
            <p:cNvSpPr/>
            <p:nvPr/>
          </p:nvSpPr>
          <p:spPr>
            <a:xfrm>
              <a:off x="3719520" y="5641920"/>
              <a:ext cx="844200" cy="30456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52" name="Freeform 49"/>
            <p:cNvSpPr/>
            <p:nvPr/>
          </p:nvSpPr>
          <p:spPr>
            <a:xfrm>
              <a:off x="3732480" y="5641920"/>
              <a:ext cx="818280" cy="30456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  <p:sp>
        <p:nvSpPr>
          <p:cNvPr id="853" name="Text Box 50"/>
          <p:cNvSpPr/>
          <p:nvPr/>
        </p:nvSpPr>
        <p:spPr>
          <a:xfrm>
            <a:off x="7921800" y="142236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Risk (%)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4" name="Text Box 51"/>
          <p:cNvSpPr/>
          <p:nvPr/>
        </p:nvSpPr>
        <p:spPr>
          <a:xfrm>
            <a:off x="7913520" y="170028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 54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5" name="Text Box 52"/>
          <p:cNvSpPr/>
          <p:nvPr/>
        </p:nvSpPr>
        <p:spPr>
          <a:xfrm>
            <a:off x="7913520" y="214308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1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6" name="Text Box 53"/>
          <p:cNvSpPr/>
          <p:nvPr/>
        </p:nvSpPr>
        <p:spPr>
          <a:xfrm>
            <a:off x="7913520" y="30542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7" name="Text Box 54"/>
          <p:cNvSpPr/>
          <p:nvPr/>
        </p:nvSpPr>
        <p:spPr>
          <a:xfrm>
            <a:off x="7913520" y="35672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1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8" name="Text Box 55"/>
          <p:cNvSpPr/>
          <p:nvPr/>
        </p:nvSpPr>
        <p:spPr>
          <a:xfrm>
            <a:off x="7921800" y="43498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9" name="Text Box 56"/>
          <p:cNvSpPr/>
          <p:nvPr/>
        </p:nvSpPr>
        <p:spPr>
          <a:xfrm>
            <a:off x="7913520" y="487188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14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60" name="Text Box 57"/>
          <p:cNvSpPr/>
          <p:nvPr/>
        </p:nvSpPr>
        <p:spPr>
          <a:xfrm>
            <a:off x="7913520" y="5506920"/>
            <a:ext cx="12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13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grpSp>
        <p:nvGrpSpPr>
          <p:cNvPr id="861" name="Group 58"/>
          <p:cNvGrpSpPr/>
          <p:nvPr/>
        </p:nvGrpSpPr>
        <p:grpSpPr>
          <a:xfrm>
            <a:off x="2303640" y="6224760"/>
            <a:ext cx="2247480" cy="96840"/>
            <a:chOff x="2303640" y="6224760"/>
            <a:chExt cx="2247480" cy="96840"/>
          </a:xfrm>
        </p:grpSpPr>
        <p:sp>
          <p:nvSpPr>
            <p:cNvPr id="862" name="Freeform 59"/>
            <p:cNvSpPr/>
            <p:nvPr/>
          </p:nvSpPr>
          <p:spPr>
            <a:xfrm>
              <a:off x="2303640" y="6224760"/>
              <a:ext cx="95760" cy="968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63" name="Line 60"/>
            <p:cNvSpPr/>
            <p:nvPr/>
          </p:nvSpPr>
          <p:spPr>
            <a:xfrm>
              <a:off x="2399400" y="6273000"/>
              <a:ext cx="2151720" cy="1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  <p:grpSp>
        <p:nvGrpSpPr>
          <p:cNvPr id="864" name="Group 61"/>
          <p:cNvGrpSpPr/>
          <p:nvPr/>
        </p:nvGrpSpPr>
        <p:grpSpPr>
          <a:xfrm>
            <a:off x="4897440" y="6224760"/>
            <a:ext cx="2233080" cy="95040"/>
            <a:chOff x="4897440" y="6224760"/>
            <a:chExt cx="2233080" cy="95040"/>
          </a:xfrm>
        </p:grpSpPr>
        <p:sp>
          <p:nvSpPr>
            <p:cNvPr id="865" name="Freeform 62"/>
            <p:cNvSpPr/>
            <p:nvPr/>
          </p:nvSpPr>
          <p:spPr>
            <a:xfrm>
              <a:off x="7035120" y="6224760"/>
              <a:ext cx="95400" cy="95040"/>
            </a:xfrm>
            <a:prstGeom prst="pie">
              <a:avLst/>
            </a:prstGeom>
            <a:solidFill>
              <a:srgbClr val="66ffff"/>
            </a:solidFill>
            <a:ln w="1260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66" name="Line 63"/>
            <p:cNvSpPr/>
            <p:nvPr/>
          </p:nvSpPr>
          <p:spPr>
            <a:xfrm flipH="1">
              <a:off x="4897440" y="6272280"/>
              <a:ext cx="2137680" cy="108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  <p:sp>
        <p:nvSpPr>
          <p:cNvPr id="867" name="Rectangle 64"/>
          <p:cNvSpPr/>
          <p:nvPr/>
        </p:nvSpPr>
        <p:spPr>
          <a:xfrm>
            <a:off x="2868480" y="6411960"/>
            <a:ext cx="138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rasugrel Better</a:t>
            </a:r>
            <a:endParaRPr b="0" lang="en-US" sz="14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68" name="Rectangle 65"/>
          <p:cNvSpPr/>
          <p:nvPr/>
        </p:nvSpPr>
        <p:spPr>
          <a:xfrm>
            <a:off x="5314320" y="6411960"/>
            <a:ext cx="155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Clopidogrel Better</a:t>
            </a:r>
            <a:endParaRPr b="0" lang="en-US" sz="14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69" name="Rectangle 66"/>
          <p:cNvSpPr/>
          <p:nvPr/>
        </p:nvSpPr>
        <p:spPr>
          <a:xfrm>
            <a:off x="4600800" y="653580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14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0" name="Line 67"/>
          <p:cNvSpPr/>
          <p:nvPr/>
        </p:nvSpPr>
        <p:spPr>
          <a:xfrm>
            <a:off x="0" y="27687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1" name="Line 68"/>
          <p:cNvSpPr/>
          <p:nvPr/>
        </p:nvSpPr>
        <p:spPr>
          <a:xfrm>
            <a:off x="0" y="54021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2" name="Text Box 69"/>
          <p:cNvSpPr/>
          <p:nvPr/>
        </p:nvSpPr>
        <p:spPr>
          <a:xfrm>
            <a:off x="6245280" y="2235240"/>
            <a:ext cx="141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in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0.00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3" name="Text Box 70"/>
          <p:cNvSpPr/>
          <p:nvPr/>
        </p:nvSpPr>
        <p:spPr>
          <a:xfrm>
            <a:off x="6245280" y="3595680"/>
            <a:ext cx="141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in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0.18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4" name="Text Box 71"/>
          <p:cNvSpPr/>
          <p:nvPr/>
        </p:nvSpPr>
        <p:spPr>
          <a:xfrm>
            <a:off x="6246720" y="4853160"/>
            <a:ext cx="141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in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0.3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5" name="Rectangle 72"/>
          <p:cNvSpPr/>
          <p:nvPr/>
        </p:nvSpPr>
        <p:spPr>
          <a:xfrm>
            <a:off x="4533840" y="930240"/>
            <a:ext cx="4041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Post-hoc analysis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6" name="Rectangle 73"/>
          <p:cNvSpPr/>
          <p:nvPr/>
        </p:nvSpPr>
        <p:spPr>
          <a:xfrm>
            <a:off x="3876840" y="4819680"/>
            <a:ext cx="372960" cy="372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Prasugrel in this ca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88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C guideline "in patients over 75 years of age, prasugrel is generally not recommended because of the increased risk for fatal and intracranial bleeding and uncertain benefit except in high-risk situations (DM a history of MI), in which its effect appears to be greater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ilarly, “body weight &lt; 60 kg is a relative CI and prior stroke is an absolute CI for prasugrel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urrently the FDA label provides the option of a 5-mg dose in patients over 75 although there is limited data on thi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os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Afbeelding 3" descr="images4.jpg"/>
          <p:cNvPicPr/>
          <p:nvPr/>
        </p:nvPicPr>
        <p:blipFill>
          <a:blip r:embed="rId1"/>
          <a:stretch/>
        </p:blipFill>
        <p:spPr>
          <a:xfrm>
            <a:off x="6400800" y="48769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Ticagrelor in this pati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PLATO patients &lt; 75 years demonstrated a significant reduction in the composite endpoint (8.6% vs 10.4%) favoring ticagrelo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patients ≥ 75 years old, there was no significant difference in composite endpoint between ticagrelor (17.2%) and clopidogrel (18.3%). However, an interaction analysis for age was not significant and it is unclear whether the lack of clear benefit reflects the small size elderly subgroup (n = 2878, [15%]) or a potential decreased efficacy in older patient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hile the rate of bleeding was numerically increased within the elderly subgroup, it did not reach statistical significance (11.2% vs 10.8%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2" name="Afbeelding 3" descr="images4.jpg"/>
          <p:cNvPicPr/>
          <p:nvPr/>
        </p:nvPicPr>
        <p:blipFill>
          <a:blip r:embed="rId1"/>
          <a:stretch/>
        </p:blipFill>
        <p:spPr>
          <a:xfrm>
            <a:off x="6477120" y="53341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ase II  Answer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884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n 80-year-old diabetic woman presents with NONSTEMI; blood pressure 130/70, pulse 80/min, weight 55 kilo’s, her calculated glomerular filtration rate is 40 mL/min. How should the antithrombotic therapy be managed in this patient (assuming no other contraindications) and an invasive approach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. Clopidogrel, Prasugrel, Ticagrelor added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clopidogrel 150 mg: NO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Ticagrelor half dose; No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Prasugrel 5 mg Yes  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886" name="Afbeelding 5" descr="images4.jpg"/>
          <p:cNvPicPr/>
          <p:nvPr/>
        </p:nvPicPr>
        <p:blipFill>
          <a:blip r:embed="rId1"/>
          <a:stretch/>
        </p:blipFill>
        <p:spPr>
          <a:xfrm>
            <a:off x="6400800" y="47242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Background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44600" y="1600200"/>
            <a:ext cx="84708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35% of patients presenting with ACS ≥ 75 yrs. 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60% of MI-related death in patients ≥ 75 yrs.</a:t>
            </a:r>
            <a:r>
              <a:rPr b="0" lang="en-US" sz="2800" spc="-1" strike="noStrike" baseline="30000">
                <a:solidFill>
                  <a:srgbClr val="656667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Risk of in hospital death for ACS increases with 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age: 70%/10 yrs.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The elderly population is increasing</a:t>
            </a:r>
            <a:r>
              <a:rPr b="0" lang="en-US" sz="2800" spc="-1" strike="noStrike" baseline="30000">
                <a:solidFill>
                  <a:srgbClr val="656667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01" name="Afbeelding 4" descr="Unknown.jpg"/>
          <p:cNvPicPr/>
          <p:nvPr/>
        </p:nvPicPr>
        <p:blipFill>
          <a:blip r:embed="rId1"/>
          <a:stretch/>
        </p:blipFill>
        <p:spPr>
          <a:xfrm>
            <a:off x="0" y="434340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ase II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888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n 80-year-old diabetic woman presents with NONSTEMI; blood pressure 130/70, pulse 80/min, weight 55 kilo’s, her calculated glomerular filtration rate is 40 mL/min.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. What anticoagulant to use in this patient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UFH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Enoxaparin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Fondaparinux  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890" name="Afbeelding 5" descr="images4.jpg"/>
          <p:cNvPicPr/>
          <p:nvPr/>
        </p:nvPicPr>
        <p:blipFill>
          <a:blip r:embed="rId1"/>
          <a:stretch/>
        </p:blipFill>
        <p:spPr>
          <a:xfrm>
            <a:off x="6400800" y="47242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66"/>
                </a:solidFill>
                <a:latin typeface="Arial"/>
              </a:rPr>
              <a:t>Background: OASIS 5 </a:t>
            </a:r>
            <a:br>
              <a:rPr sz="3600"/>
            </a:br>
            <a:r>
              <a:rPr b="0" lang="en-CA" sz="2000" spc="-1" strike="noStrike">
                <a:solidFill>
                  <a:srgbClr val="ffff66"/>
                </a:solidFill>
                <a:latin typeface="Arial"/>
              </a:rPr>
              <a:t>Randomized  trial of Fondaparinux vs. Enoxaparin in NSTEACS (n=20,078) demonstrated non-inferiority for CV death, MI, Refractory Isch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9"/>
          <p:cNvSpPr/>
          <p:nvPr/>
        </p:nvSpPr>
        <p:spPr>
          <a:xfrm>
            <a:off x="0" y="5572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Fondapa vs. Enox reduced major bleeding by 48% and mortality by 17%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In patients over 75: similar efficacy and bleeding advantage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4500720" y="6581880"/>
            <a:ext cx="46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ASIS 5 Investigators.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N Engl J Med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2006;354:1464-76</a:t>
            </a:r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grpSp>
        <p:nvGrpSpPr>
          <p:cNvPr id="894" name="Group 4"/>
          <p:cNvGrpSpPr/>
          <p:nvPr/>
        </p:nvGrpSpPr>
        <p:grpSpPr>
          <a:xfrm>
            <a:off x="-181080" y="1773360"/>
            <a:ext cx="4568760" cy="3603600"/>
            <a:chOff x="-181080" y="1773360"/>
            <a:chExt cx="4568760" cy="3603600"/>
          </a:xfrm>
        </p:grpSpPr>
        <p:sp>
          <p:nvSpPr>
            <p:cNvPr id="895" name="AutoShape 3"/>
            <p:cNvSpPr/>
            <p:nvPr/>
          </p:nvSpPr>
          <p:spPr>
            <a:xfrm>
              <a:off x="-181080" y="1844640"/>
              <a:ext cx="4567320" cy="34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96" name="Rectangle 5"/>
            <p:cNvSpPr/>
            <p:nvPr/>
          </p:nvSpPr>
          <p:spPr>
            <a:xfrm>
              <a:off x="-181080" y="1773360"/>
              <a:ext cx="4568760" cy="3603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97" name="Rectangle 8"/>
            <p:cNvSpPr/>
            <p:nvPr/>
          </p:nvSpPr>
          <p:spPr>
            <a:xfrm>
              <a:off x="1124280" y="2060640"/>
              <a:ext cx="2983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Arial"/>
                </a:rPr>
                <a:t>Major Bleeding at 9 days</a:t>
              </a:r>
              <a:endParaRPr b="0" lang="en-US" sz="2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98" name="Rectangle 12"/>
            <p:cNvSpPr/>
            <p:nvPr/>
          </p:nvSpPr>
          <p:spPr>
            <a:xfrm>
              <a:off x="4237200" y="50990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99" name="Rectangle 14"/>
            <p:cNvSpPr/>
            <p:nvPr/>
          </p:nvSpPr>
          <p:spPr>
            <a:xfrm>
              <a:off x="3964680" y="3054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c000"/>
                  </a:solidFill>
                  <a:latin typeface="Arial"/>
                </a:rPr>
                <a:t>48% </a:t>
              </a:r>
              <a:endParaRPr b="0" lang="en-US" sz="12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0" name="Rectangle 15"/>
            <p:cNvSpPr/>
            <p:nvPr/>
          </p:nvSpPr>
          <p:spPr>
            <a:xfrm>
              <a:off x="3922560" y="3238560"/>
              <a:ext cx="40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c000"/>
                  </a:solidFill>
                  <a:latin typeface="Arial"/>
                </a:rPr>
                <a:t>relative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1" name="Rectangle 16"/>
            <p:cNvSpPr/>
            <p:nvPr/>
          </p:nvSpPr>
          <p:spPr>
            <a:xfrm>
              <a:off x="4017960" y="3375000"/>
              <a:ext cx="21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c000"/>
                  </a:solidFill>
                  <a:latin typeface="Arial"/>
                </a:rPr>
                <a:t>risk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2" name="Rectangle 17"/>
            <p:cNvSpPr/>
            <p:nvPr/>
          </p:nvSpPr>
          <p:spPr>
            <a:xfrm>
              <a:off x="3869280" y="3513240"/>
              <a:ext cx="47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c000"/>
                  </a:solidFill>
                  <a:latin typeface="Arial"/>
                </a:rPr>
                <a:t>reduction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3" name="Rectangle 22"/>
            <p:cNvSpPr/>
            <p:nvPr/>
          </p:nvSpPr>
          <p:spPr>
            <a:xfrm>
              <a:off x="1943640" y="4888080"/>
              <a:ext cx="2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00"/>
                  </a:solidFill>
                  <a:latin typeface="Arial"/>
                </a:rPr>
                <a:t>Days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4" name="Rectangle 23"/>
            <p:cNvSpPr/>
            <p:nvPr/>
          </p:nvSpPr>
          <p:spPr>
            <a:xfrm>
              <a:off x="311040" y="42861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5" name="Rectangle 24"/>
            <p:cNvSpPr/>
            <p:nvPr/>
          </p:nvSpPr>
          <p:spPr>
            <a:xfrm>
              <a:off x="662040" y="4216320"/>
              <a:ext cx="34920" cy="4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6" name="Rectangle 25"/>
            <p:cNvSpPr/>
            <p:nvPr/>
          </p:nvSpPr>
          <p:spPr>
            <a:xfrm>
              <a:off x="662040" y="3827520"/>
              <a:ext cx="34920" cy="4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7" name="Freeform 26"/>
            <p:cNvSpPr/>
            <p:nvPr/>
          </p:nvSpPr>
          <p:spPr>
            <a:xfrm>
              <a:off x="662040" y="3438360"/>
              <a:ext cx="3492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8" name="Freeform 27"/>
            <p:cNvSpPr/>
            <p:nvPr/>
          </p:nvSpPr>
          <p:spPr>
            <a:xfrm>
              <a:off x="662040" y="3049560"/>
              <a:ext cx="3492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9" name="Rectangle 28"/>
            <p:cNvSpPr/>
            <p:nvPr/>
          </p:nvSpPr>
          <p:spPr>
            <a:xfrm>
              <a:off x="695160" y="2881440"/>
              <a:ext cx="4680" cy="1796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0" name="Rectangle 29"/>
            <p:cNvSpPr/>
            <p:nvPr/>
          </p:nvSpPr>
          <p:spPr>
            <a:xfrm>
              <a:off x="516600" y="4573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1" name="Rectangle 30"/>
            <p:cNvSpPr/>
            <p:nvPr/>
          </p:nvSpPr>
          <p:spPr>
            <a:xfrm>
              <a:off x="476640" y="4187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1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2" name="Rectangle 31"/>
            <p:cNvSpPr/>
            <p:nvPr/>
          </p:nvSpPr>
          <p:spPr>
            <a:xfrm>
              <a:off x="478080" y="3800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2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3" name="Rectangle 32"/>
            <p:cNvSpPr/>
            <p:nvPr/>
          </p:nvSpPr>
          <p:spPr>
            <a:xfrm>
              <a:off x="480600" y="34066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3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4" name="Rectangle 33"/>
            <p:cNvSpPr/>
            <p:nvPr/>
          </p:nvSpPr>
          <p:spPr>
            <a:xfrm>
              <a:off x="495720" y="3017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4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5" name="Freeform 34"/>
            <p:cNvSpPr/>
            <p:nvPr/>
          </p:nvSpPr>
          <p:spPr>
            <a:xfrm>
              <a:off x="696960" y="3000240"/>
              <a:ext cx="2765160" cy="16160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6" name="Freeform 35"/>
            <p:cNvSpPr/>
            <p:nvPr/>
          </p:nvSpPr>
          <p:spPr>
            <a:xfrm>
              <a:off x="696960" y="3759120"/>
              <a:ext cx="2774880" cy="85716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7" name="Rectangle 36"/>
            <p:cNvSpPr/>
            <p:nvPr/>
          </p:nvSpPr>
          <p:spPr>
            <a:xfrm>
              <a:off x="695160" y="4672080"/>
              <a:ext cx="468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8" name="Freeform 37"/>
            <p:cNvSpPr/>
            <p:nvPr/>
          </p:nvSpPr>
          <p:spPr>
            <a:xfrm>
              <a:off x="1001520" y="4672080"/>
              <a:ext cx="648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9" name="Rectangle 38"/>
            <p:cNvSpPr/>
            <p:nvPr/>
          </p:nvSpPr>
          <p:spPr>
            <a:xfrm>
              <a:off x="1309680" y="4672080"/>
              <a:ext cx="468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0" name="Freeform 39"/>
            <p:cNvSpPr/>
            <p:nvPr/>
          </p:nvSpPr>
          <p:spPr>
            <a:xfrm>
              <a:off x="1617480" y="4672080"/>
              <a:ext cx="468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1" name="Freeform 40"/>
            <p:cNvSpPr/>
            <p:nvPr/>
          </p:nvSpPr>
          <p:spPr>
            <a:xfrm>
              <a:off x="1923840" y="4672080"/>
              <a:ext cx="648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2" name="Rectangle 41"/>
            <p:cNvSpPr/>
            <p:nvPr/>
          </p:nvSpPr>
          <p:spPr>
            <a:xfrm>
              <a:off x="2232000" y="4672080"/>
              <a:ext cx="468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3" name="Freeform 42"/>
            <p:cNvSpPr/>
            <p:nvPr/>
          </p:nvSpPr>
          <p:spPr>
            <a:xfrm>
              <a:off x="2538360" y="4672080"/>
              <a:ext cx="612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4" name="Rectangle 43"/>
            <p:cNvSpPr/>
            <p:nvPr/>
          </p:nvSpPr>
          <p:spPr>
            <a:xfrm>
              <a:off x="2846160" y="4672080"/>
              <a:ext cx="504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5" name="Rectangle 44"/>
            <p:cNvSpPr/>
            <p:nvPr/>
          </p:nvSpPr>
          <p:spPr>
            <a:xfrm>
              <a:off x="3154320" y="4672080"/>
              <a:ext cx="468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6" name="Freeform 45"/>
            <p:cNvSpPr/>
            <p:nvPr/>
          </p:nvSpPr>
          <p:spPr>
            <a:xfrm>
              <a:off x="3460680" y="4672080"/>
              <a:ext cx="648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7" name="Rectangle 46"/>
            <p:cNvSpPr/>
            <p:nvPr/>
          </p:nvSpPr>
          <p:spPr>
            <a:xfrm>
              <a:off x="696960" y="4670280"/>
              <a:ext cx="2766960" cy="5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8" name="Rectangle 47"/>
            <p:cNvSpPr/>
            <p:nvPr/>
          </p:nvSpPr>
          <p:spPr>
            <a:xfrm>
              <a:off x="74592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9" name="Rectangle 48"/>
            <p:cNvSpPr/>
            <p:nvPr/>
          </p:nvSpPr>
          <p:spPr>
            <a:xfrm>
              <a:off x="105228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0" name="Rectangle 49"/>
            <p:cNvSpPr/>
            <p:nvPr/>
          </p:nvSpPr>
          <p:spPr>
            <a:xfrm>
              <a:off x="136008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1" name="Rectangle 50"/>
            <p:cNvSpPr/>
            <p:nvPr/>
          </p:nvSpPr>
          <p:spPr>
            <a:xfrm>
              <a:off x="163476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2" name="Rectangle 51"/>
            <p:cNvSpPr/>
            <p:nvPr/>
          </p:nvSpPr>
          <p:spPr>
            <a:xfrm>
              <a:off x="194220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3" name="Rectangle 52"/>
            <p:cNvSpPr/>
            <p:nvPr/>
          </p:nvSpPr>
          <p:spPr>
            <a:xfrm>
              <a:off x="2249280" y="4773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4" name="Rectangle 53"/>
            <p:cNvSpPr/>
            <p:nvPr/>
          </p:nvSpPr>
          <p:spPr>
            <a:xfrm>
              <a:off x="2550960" y="478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5" name="Rectangle 54"/>
            <p:cNvSpPr/>
            <p:nvPr/>
          </p:nvSpPr>
          <p:spPr>
            <a:xfrm>
              <a:off x="2857320" y="47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6" name="Rectangle 55"/>
            <p:cNvSpPr/>
            <p:nvPr/>
          </p:nvSpPr>
          <p:spPr>
            <a:xfrm>
              <a:off x="3166200" y="47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7" name="Rectangle 56"/>
            <p:cNvSpPr/>
            <p:nvPr/>
          </p:nvSpPr>
          <p:spPr>
            <a:xfrm>
              <a:off x="3472560" y="47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8" name="Rectangle 57"/>
            <p:cNvSpPr/>
            <p:nvPr/>
          </p:nvSpPr>
          <p:spPr>
            <a:xfrm>
              <a:off x="902520" y="316404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HR: 0.52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9" name="Rectangle 58"/>
            <p:cNvSpPr/>
            <p:nvPr/>
          </p:nvSpPr>
          <p:spPr>
            <a:xfrm>
              <a:off x="901440" y="3287880"/>
              <a:ext cx="67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95% CI: 0.44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0" name="Rectangle 59"/>
            <p:cNvSpPr/>
            <p:nvPr/>
          </p:nvSpPr>
          <p:spPr>
            <a:xfrm>
              <a:off x="1571760" y="3287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1" name="Rectangle 60"/>
            <p:cNvSpPr/>
            <p:nvPr/>
          </p:nvSpPr>
          <p:spPr>
            <a:xfrm>
              <a:off x="1607400" y="32878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0.61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2" name="Rectangle 61"/>
            <p:cNvSpPr/>
            <p:nvPr/>
          </p:nvSpPr>
          <p:spPr>
            <a:xfrm>
              <a:off x="901800" y="3409920"/>
              <a:ext cx="48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p&lt;0.0001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3" name="Rectangle 62"/>
            <p:cNvSpPr/>
            <p:nvPr/>
          </p:nvSpPr>
          <p:spPr>
            <a:xfrm>
              <a:off x="2414160" y="297828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oxaparin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4" name="Rectangle 63"/>
            <p:cNvSpPr/>
            <p:nvPr/>
          </p:nvSpPr>
          <p:spPr>
            <a:xfrm>
              <a:off x="2639520" y="4064040"/>
              <a:ext cx="83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ndaparinux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5" name="Freeform 64"/>
            <p:cNvSpPr/>
            <p:nvPr/>
          </p:nvSpPr>
          <p:spPr>
            <a:xfrm>
              <a:off x="662040" y="4599000"/>
              <a:ext cx="3492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6" name="Rectangle 65"/>
            <p:cNvSpPr/>
            <p:nvPr/>
          </p:nvSpPr>
          <p:spPr>
            <a:xfrm>
              <a:off x="3595680" y="290988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.1 %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7" name="Rectangle 66"/>
            <p:cNvSpPr/>
            <p:nvPr/>
          </p:nvSpPr>
          <p:spPr>
            <a:xfrm>
              <a:off x="3558960" y="37209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.2 %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8" name="Freeform 67"/>
            <p:cNvSpPr/>
            <p:nvPr/>
          </p:nvSpPr>
          <p:spPr>
            <a:xfrm>
              <a:off x="3601800" y="3095640"/>
              <a:ext cx="177840" cy="57132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9" name="Freeform 68"/>
            <p:cNvSpPr/>
            <p:nvPr/>
          </p:nvSpPr>
          <p:spPr>
            <a:xfrm>
              <a:off x="3597120" y="3092400"/>
              <a:ext cx="189000" cy="577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  <p:grpSp>
        <p:nvGrpSpPr>
          <p:cNvPr id="950" name="Group 65"/>
          <p:cNvGrpSpPr/>
          <p:nvPr/>
        </p:nvGrpSpPr>
        <p:grpSpPr>
          <a:xfrm>
            <a:off x="4346640" y="1916280"/>
            <a:ext cx="4797000" cy="3749040"/>
            <a:chOff x="4346640" y="1916280"/>
            <a:chExt cx="4797000" cy="3749040"/>
          </a:xfrm>
        </p:grpSpPr>
        <p:sp>
          <p:nvSpPr>
            <p:cNvPr id="951" name="AutoShape 64"/>
            <p:cNvSpPr/>
            <p:nvPr/>
          </p:nvSpPr>
          <p:spPr>
            <a:xfrm>
              <a:off x="4346640" y="1916280"/>
              <a:ext cx="4795560" cy="360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2" name="Rectangle 66"/>
            <p:cNvSpPr/>
            <p:nvPr/>
          </p:nvSpPr>
          <p:spPr>
            <a:xfrm>
              <a:off x="4346640" y="2061360"/>
              <a:ext cx="4797000" cy="3603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3" name="Rectangle 69"/>
            <p:cNvSpPr/>
            <p:nvPr/>
          </p:nvSpPr>
          <p:spPr>
            <a:xfrm>
              <a:off x="5788800" y="2059200"/>
              <a:ext cx="236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Arial"/>
                </a:rPr>
                <a:t>Mortality at 30 days</a:t>
              </a:r>
              <a:endParaRPr b="0" lang="en-US" sz="2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4" name="Rectangle 70"/>
            <p:cNvSpPr/>
            <p:nvPr/>
          </p:nvSpPr>
          <p:spPr>
            <a:xfrm>
              <a:off x="4674240" y="5027040"/>
              <a:ext cx="118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ondaparinux: 295 deaths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5" name="Rectangle 71"/>
            <p:cNvSpPr/>
            <p:nvPr/>
          </p:nvSpPr>
          <p:spPr>
            <a:xfrm>
              <a:off x="4596480" y="5153760"/>
              <a:ext cx="107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noxaparin: 352 deaths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6" name="Rectangle 72"/>
            <p:cNvSpPr/>
            <p:nvPr/>
          </p:nvSpPr>
          <p:spPr>
            <a:xfrm>
              <a:off x="6824160" y="4898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66"/>
                  </a:solidFill>
                  <a:latin typeface="Arial"/>
                </a:rPr>
                <a:t>Days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7" name="Rectangle 73"/>
            <p:cNvSpPr/>
            <p:nvPr/>
          </p:nvSpPr>
          <p:spPr>
            <a:xfrm>
              <a:off x="5232960" y="47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8" name="Rectangle 74"/>
            <p:cNvSpPr/>
            <p:nvPr/>
          </p:nvSpPr>
          <p:spPr>
            <a:xfrm>
              <a:off x="5506200" y="47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9" name="Rectangle 75"/>
            <p:cNvSpPr/>
            <p:nvPr/>
          </p:nvSpPr>
          <p:spPr>
            <a:xfrm>
              <a:off x="5779800" y="47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0" name="Rectangle 76"/>
            <p:cNvSpPr/>
            <p:nvPr/>
          </p:nvSpPr>
          <p:spPr>
            <a:xfrm>
              <a:off x="6054480" y="47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1" name="Rectangle 77"/>
            <p:cNvSpPr/>
            <p:nvPr/>
          </p:nvSpPr>
          <p:spPr>
            <a:xfrm>
              <a:off x="629712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2" name="Rectangle 78"/>
            <p:cNvSpPr/>
            <p:nvPr/>
          </p:nvSpPr>
          <p:spPr>
            <a:xfrm>
              <a:off x="657108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3" name="Rectangle 79"/>
            <p:cNvSpPr/>
            <p:nvPr/>
          </p:nvSpPr>
          <p:spPr>
            <a:xfrm>
              <a:off x="684540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4" name="Rectangle 80"/>
            <p:cNvSpPr/>
            <p:nvPr/>
          </p:nvSpPr>
          <p:spPr>
            <a:xfrm>
              <a:off x="711864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5" name="Rectangle 81"/>
            <p:cNvSpPr/>
            <p:nvPr/>
          </p:nvSpPr>
          <p:spPr>
            <a:xfrm>
              <a:off x="739188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6" name="Rectangle 82"/>
            <p:cNvSpPr/>
            <p:nvPr/>
          </p:nvSpPr>
          <p:spPr>
            <a:xfrm>
              <a:off x="766512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7" name="Rectangle 83"/>
            <p:cNvSpPr/>
            <p:nvPr/>
          </p:nvSpPr>
          <p:spPr>
            <a:xfrm>
              <a:off x="793872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8" name="Rectangle 84"/>
            <p:cNvSpPr/>
            <p:nvPr/>
          </p:nvSpPr>
          <p:spPr>
            <a:xfrm>
              <a:off x="4788360" y="4179960"/>
              <a:ext cx="36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9" name="Freeform 85"/>
            <p:cNvSpPr/>
            <p:nvPr/>
          </p:nvSpPr>
          <p:spPr>
            <a:xfrm>
              <a:off x="5181840" y="4641840"/>
              <a:ext cx="3816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0" name="Freeform 86"/>
            <p:cNvSpPr/>
            <p:nvPr/>
          </p:nvSpPr>
          <p:spPr>
            <a:xfrm>
              <a:off x="5181840" y="4179960"/>
              <a:ext cx="3816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1" name="Rectangle 87"/>
            <p:cNvSpPr/>
            <p:nvPr/>
          </p:nvSpPr>
          <p:spPr>
            <a:xfrm>
              <a:off x="5181840" y="3718080"/>
              <a:ext cx="38160" cy="4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2" name="Freeform 88"/>
            <p:cNvSpPr/>
            <p:nvPr/>
          </p:nvSpPr>
          <p:spPr>
            <a:xfrm>
              <a:off x="5181840" y="3254760"/>
              <a:ext cx="3816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3" name="Rectangle 89"/>
            <p:cNvSpPr/>
            <p:nvPr/>
          </p:nvSpPr>
          <p:spPr>
            <a:xfrm>
              <a:off x="5216760" y="2767680"/>
              <a:ext cx="4680" cy="1973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4" name="Rectangle 90"/>
            <p:cNvSpPr/>
            <p:nvPr/>
          </p:nvSpPr>
          <p:spPr>
            <a:xfrm>
              <a:off x="4982040" y="45669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5" name="Rectangle 91"/>
            <p:cNvSpPr/>
            <p:nvPr/>
          </p:nvSpPr>
          <p:spPr>
            <a:xfrm>
              <a:off x="4967640" y="4108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1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6" name="Rectangle 92"/>
            <p:cNvSpPr/>
            <p:nvPr/>
          </p:nvSpPr>
          <p:spPr>
            <a:xfrm>
              <a:off x="4954680" y="3641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2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7" name="Rectangle 93"/>
            <p:cNvSpPr/>
            <p:nvPr/>
          </p:nvSpPr>
          <p:spPr>
            <a:xfrm>
              <a:off x="4969440" y="3179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3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8" name="Freeform 94"/>
            <p:cNvSpPr/>
            <p:nvPr/>
          </p:nvSpPr>
          <p:spPr>
            <a:xfrm>
              <a:off x="5220000" y="2956320"/>
              <a:ext cx="2835360" cy="16966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9" name="Freeform 95"/>
            <p:cNvSpPr/>
            <p:nvPr/>
          </p:nvSpPr>
          <p:spPr>
            <a:xfrm>
              <a:off x="5220000" y="3238200"/>
              <a:ext cx="2835360" cy="141516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0" name="Rectangle 96"/>
            <p:cNvSpPr/>
            <p:nvPr/>
          </p:nvSpPr>
          <p:spPr>
            <a:xfrm>
              <a:off x="521676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1" name="Rectangle 97"/>
            <p:cNvSpPr/>
            <p:nvPr/>
          </p:nvSpPr>
          <p:spPr>
            <a:xfrm>
              <a:off x="5490000" y="4713480"/>
              <a:ext cx="504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2" name="Rectangle 98"/>
            <p:cNvSpPr/>
            <p:nvPr/>
          </p:nvSpPr>
          <p:spPr>
            <a:xfrm>
              <a:off x="5763240" y="4713480"/>
              <a:ext cx="504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3" name="Rectangle 99"/>
            <p:cNvSpPr/>
            <p:nvPr/>
          </p:nvSpPr>
          <p:spPr>
            <a:xfrm>
              <a:off x="603684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4" name="Rectangle 100"/>
            <p:cNvSpPr/>
            <p:nvPr/>
          </p:nvSpPr>
          <p:spPr>
            <a:xfrm>
              <a:off x="6311880" y="4713480"/>
              <a:ext cx="504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5" name="Freeform 101"/>
            <p:cNvSpPr/>
            <p:nvPr/>
          </p:nvSpPr>
          <p:spPr>
            <a:xfrm>
              <a:off x="6583680" y="4713480"/>
              <a:ext cx="6480" cy="36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6" name="Rectangle 102"/>
            <p:cNvSpPr/>
            <p:nvPr/>
          </p:nvSpPr>
          <p:spPr>
            <a:xfrm>
              <a:off x="685872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7" name="Rectangle 103"/>
            <p:cNvSpPr/>
            <p:nvPr/>
          </p:nvSpPr>
          <p:spPr>
            <a:xfrm>
              <a:off x="713196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8" name="Rectangle 104"/>
            <p:cNvSpPr/>
            <p:nvPr/>
          </p:nvSpPr>
          <p:spPr>
            <a:xfrm>
              <a:off x="740520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9" name="Rectangle 105"/>
            <p:cNvSpPr/>
            <p:nvPr/>
          </p:nvSpPr>
          <p:spPr>
            <a:xfrm>
              <a:off x="767880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0" name="Rectangle 106"/>
            <p:cNvSpPr/>
            <p:nvPr/>
          </p:nvSpPr>
          <p:spPr>
            <a:xfrm>
              <a:off x="795384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1" name="Freeform 107"/>
            <p:cNvSpPr/>
            <p:nvPr/>
          </p:nvSpPr>
          <p:spPr>
            <a:xfrm>
              <a:off x="5220000" y="4710240"/>
              <a:ext cx="2735280" cy="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2" name="Rectangle 108"/>
            <p:cNvSpPr/>
            <p:nvPr/>
          </p:nvSpPr>
          <p:spPr>
            <a:xfrm>
              <a:off x="6475320" y="397332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HR: 0.83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3" name="Rectangle 109"/>
            <p:cNvSpPr/>
            <p:nvPr/>
          </p:nvSpPr>
          <p:spPr>
            <a:xfrm>
              <a:off x="6478560" y="4116600"/>
              <a:ext cx="67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95% CI: 0.71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4" name="Rectangle 110"/>
            <p:cNvSpPr/>
            <p:nvPr/>
          </p:nvSpPr>
          <p:spPr>
            <a:xfrm>
              <a:off x="7166520" y="4116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5" name="Rectangle 111"/>
            <p:cNvSpPr/>
            <p:nvPr/>
          </p:nvSpPr>
          <p:spPr>
            <a:xfrm>
              <a:off x="7210440" y="4116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0.97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6" name="Rectangle 112"/>
            <p:cNvSpPr/>
            <p:nvPr/>
          </p:nvSpPr>
          <p:spPr>
            <a:xfrm>
              <a:off x="6471720" y="426168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p=0.02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7" name="Rectangle 113"/>
            <p:cNvSpPr/>
            <p:nvPr/>
          </p:nvSpPr>
          <p:spPr>
            <a:xfrm>
              <a:off x="6543720" y="293796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oxaparin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8" name="Rectangle 114"/>
            <p:cNvSpPr/>
            <p:nvPr/>
          </p:nvSpPr>
          <p:spPr>
            <a:xfrm>
              <a:off x="7157520" y="3531600"/>
              <a:ext cx="83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ndaparinux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9" name="Freeform 115"/>
            <p:cNvSpPr/>
            <p:nvPr/>
          </p:nvSpPr>
          <p:spPr>
            <a:xfrm>
              <a:off x="5181840" y="2787840"/>
              <a:ext cx="3816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0" name="Rectangle 116"/>
            <p:cNvSpPr/>
            <p:nvPr/>
          </p:nvSpPr>
          <p:spPr>
            <a:xfrm>
              <a:off x="4954680" y="2711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4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1" name="Rectangle 117"/>
            <p:cNvSpPr/>
            <p:nvPr/>
          </p:nvSpPr>
          <p:spPr>
            <a:xfrm>
              <a:off x="8139600" y="28080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.5 %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2" name="Rectangle 118"/>
            <p:cNvSpPr/>
            <p:nvPr/>
          </p:nvSpPr>
          <p:spPr>
            <a:xfrm>
              <a:off x="8139600" y="31849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.9 %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3" name="Rectangle 122"/>
            <p:cNvSpPr/>
            <p:nvPr/>
          </p:nvSpPr>
          <p:spPr>
            <a:xfrm>
              <a:off x="8986680" y="53452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4" name="Freeform 124"/>
            <p:cNvSpPr/>
            <p:nvPr/>
          </p:nvSpPr>
          <p:spPr>
            <a:xfrm>
              <a:off x="8468640" y="2891520"/>
              <a:ext cx="149760" cy="26316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5" name="Freeform 125"/>
            <p:cNvSpPr/>
            <p:nvPr/>
          </p:nvSpPr>
          <p:spPr>
            <a:xfrm>
              <a:off x="8462160" y="2889720"/>
              <a:ext cx="161640" cy="268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6" name="Rectangle 126"/>
            <p:cNvSpPr/>
            <p:nvPr/>
          </p:nvSpPr>
          <p:spPr>
            <a:xfrm>
              <a:off x="8708040" y="2846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000"/>
                  </a:solidFill>
                  <a:latin typeface="Arial"/>
                </a:rPr>
                <a:t>17 %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7" name="Rectangle 127"/>
            <p:cNvSpPr/>
            <p:nvPr/>
          </p:nvSpPr>
          <p:spPr>
            <a:xfrm>
              <a:off x="8712720" y="298980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000"/>
                  </a:solidFill>
                  <a:latin typeface="Arial"/>
                </a:rPr>
                <a:t>RRR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2" descr="C:\Documents and Settings\z874126.UMCDD4W4Y0J\My Documents\Documents\ACUITY.TIF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Fonda Davos"/>
          <p:cNvPicPr/>
          <p:nvPr/>
        </p:nvPicPr>
        <p:blipFill>
          <a:blip r:embed="rId1"/>
          <a:srcRect l="4323" t="11134" r="2744" b="12199"/>
          <a:stretch/>
        </p:blipFill>
        <p:spPr>
          <a:xfrm>
            <a:off x="452520" y="981000"/>
            <a:ext cx="8151840" cy="504360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8840" y="43920"/>
            <a:ext cx="8912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Arial Narrow"/>
              </a:rPr>
              <a:t>Acuity – Primary Endpoint Measures</a:t>
            </a:r>
            <a:endParaRPr b="0" lang="en-US" sz="4400" spc="-1" strike="noStrike">
              <a:solidFill>
                <a:srgbClr val="008294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6375240" y="566100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NEJM 2006;355:2203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12" name="Tekstvak 4"/>
          <p:cNvSpPr/>
          <p:nvPr/>
        </p:nvSpPr>
        <p:spPr>
          <a:xfrm>
            <a:off x="0" y="594360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56667"/>
                </a:solidFill>
                <a:latin typeface="Arial"/>
              </a:rPr>
              <a:t>A subgroup 2441 patients ≥ 75 years : bivalirudin monotherapy yielded similar ischemic outcomes but significantly lower rates of bleeding compared with heparin plus IIb/IIIa inhibitor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0000"/>
                </a:solidFill>
                <a:latin typeface="Arial"/>
              </a:rPr>
              <a:t>Invasive Treatment in Elderly?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TACTICS-TIMI 18 trial subgroup analysis of 962 ≥ 65 years old found that an early invasive strategy resulted in a more pronounced absolute (4.8% vs 1%) and relative reduction (39%) in death or MI at 6 months.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Similarly, both absolute and relative reduction were also observed in the 278 patients ≥ 75 years old. 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However, the invasive strategy was associated with a 3-fold increased risk of in-hospital major bleeding in subjects ≥ 75 years old (16.6% vs 6.5%, P = .009).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Radial excess reduces bleedings (OCTOPLUS trial)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PPIs reduce bleedings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POPular AGE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110000"/>
              </a:lnSpc>
              <a:spcAft>
                <a:spcPts val="90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Aim: to study the effect of ticagrelor and prasugrel versus clopidogrel in NONSTEMI patients over 75 years of age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Design: Multicenter RCT (Antonius, UMCU, Zwolle, Woerden, UMC Nijmegen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Study population: 1,000 pt NSTEMI, &gt; 75 jaar, CRUSADE &gt;31, 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Hypothesis: clopidogrel superior in bleeding risk without increasing the net clinical benefit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64800" y="533520"/>
            <a:ext cx="82551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onclusions: Treating ACS in Elderly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304920" y="990720"/>
            <a:ext cx="8559720" cy="5715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4aaa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5240" rIns="165240" tIns="155520" bIns="155520" anchor="ctr" anchorCtr="1">
            <a:spAutoFit/>
          </a:bodyPr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re often CKD and bleeding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 aware of overdosing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e aspirin as in younger patients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asugrel and Ticagrelor no benefit over clopidogrel in TRITON and PLATO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e fonda or bival for high-risk patients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e Proton pump inhibitors liberally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sider radial access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fter bleeding, readdress risk/benefit and resume antithrombotics (carefully)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26522"/>
                </a:solidFill>
                <a:latin typeface="Arial"/>
              </a:rPr>
              <a:t>Take Care !</a:t>
            </a:r>
            <a:endParaRPr b="1" lang="en-US" sz="4400" spc="-1" strike="noStrike">
              <a:solidFill>
                <a:srgbClr val="f26522"/>
              </a:solidFill>
              <a:latin typeface="Arial"/>
            </a:endParaRPr>
          </a:p>
        </p:txBody>
      </p:sp>
      <p:pic>
        <p:nvPicPr>
          <p:cNvPr id="1023" name="Tijdelijke aanduiding voor inhoud 4" descr="images7.jpg"/>
          <p:cNvPicPr/>
          <p:nvPr/>
        </p:nvPicPr>
        <p:blipFill>
          <a:blip r:embed="rId1"/>
          <a:stretch/>
        </p:blipFill>
        <p:spPr>
          <a:xfrm>
            <a:off x="762120" y="1676520"/>
            <a:ext cx="8180280" cy="4647960"/>
          </a:xfrm>
          <a:prstGeom prst="rect">
            <a:avLst/>
          </a:prstGeom>
          <a:ln w="0">
            <a:noFill/>
          </a:ln>
        </p:spPr>
      </p:pic>
      <p:sp>
        <p:nvSpPr>
          <p:cNvPr id="1024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1360" y="609480"/>
            <a:ext cx="8254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The evidence is not coming from randomized trials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Number of patients over 75 years of age is very low in RCT. </a:t>
            </a:r>
            <a:br>
              <a:rPr sz="2000"/>
            </a:b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n contrast, this age group represents 30-40% of those presenting in community hospitals</a:t>
            </a:r>
            <a:br>
              <a:rPr sz="2000"/>
            </a:b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26522"/>
              </a:solidFill>
              <a:latin typeface="Arial"/>
            </a:endParaRPr>
          </a:p>
        </p:txBody>
      </p:sp>
      <p:pic>
        <p:nvPicPr>
          <p:cNvPr id="704" name="Picture 4" descr=""/>
          <p:cNvPicPr/>
          <p:nvPr/>
        </p:nvPicPr>
        <p:blipFill>
          <a:blip r:embed="rId1"/>
          <a:stretch/>
        </p:blipFill>
        <p:spPr>
          <a:xfrm>
            <a:off x="76320" y="2513160"/>
            <a:ext cx="6324480" cy="3506760"/>
          </a:xfrm>
          <a:prstGeom prst="rect">
            <a:avLst/>
          </a:prstGeom>
          <a:ln w="0">
            <a:noFill/>
          </a:ln>
        </p:spPr>
      </p:pic>
      <p:pic>
        <p:nvPicPr>
          <p:cNvPr id="705" name="Afbeelding 4" descr="Unknown1.jpg"/>
          <p:cNvPicPr/>
          <p:nvPr/>
        </p:nvPicPr>
        <p:blipFill>
          <a:blip r:embed="rId2"/>
          <a:stretch/>
        </p:blipFill>
        <p:spPr>
          <a:xfrm>
            <a:off x="6324480" y="4419720"/>
            <a:ext cx="2819520" cy="2133360"/>
          </a:xfrm>
          <a:prstGeom prst="rect">
            <a:avLst/>
          </a:prstGeom>
          <a:ln w="0">
            <a:noFill/>
          </a:ln>
        </p:spPr>
      </p:pic>
      <p:sp>
        <p:nvSpPr>
          <p:cNvPr id="706" name="Tekstvak 6"/>
          <p:cNvSpPr/>
          <p:nvPr/>
        </p:nvSpPr>
        <p:spPr>
          <a:xfrm>
            <a:off x="2378160" y="6062760"/>
            <a:ext cx="22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656667"/>
                </a:solidFill>
                <a:latin typeface="Arial"/>
              </a:rPr>
              <a:t>Alexander et al. Circulation 2007</a:t>
            </a:r>
            <a:endParaRPr b="0" lang="en-US" sz="11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1540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Alexander et al Circ 2007: ACS in Elderly &gt;75 yrs (VIGOUR vs GRACE)</a:t>
            </a:r>
            <a:endParaRPr b="1" lang="en-US" sz="2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356840"/>
            <a:ext cx="82551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Patients in RCT: lower risk, less co-morbidities, less CKD than their community counterparts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6067440" cy="3429000"/>
          </a:xfrm>
          <a:prstGeom prst="rect">
            <a:avLst/>
          </a:prstGeom>
          <a:ln w="0">
            <a:noFill/>
          </a:ln>
        </p:spPr>
      </p:pic>
      <p:pic>
        <p:nvPicPr>
          <p:cNvPr id="711" name="Afbeelding 5" descr="Unknown3.jpg"/>
          <p:cNvPicPr/>
          <p:nvPr/>
        </p:nvPicPr>
        <p:blipFill>
          <a:blip r:embed="rId2"/>
          <a:stretch/>
        </p:blipFill>
        <p:spPr>
          <a:xfrm>
            <a:off x="6705720" y="4343400"/>
            <a:ext cx="2438280" cy="2209680"/>
          </a:xfrm>
          <a:prstGeom prst="rect">
            <a:avLst/>
          </a:prstGeom>
          <a:ln w="0">
            <a:noFill/>
          </a:ln>
        </p:spPr>
      </p:pic>
      <p:sp>
        <p:nvSpPr>
          <p:cNvPr id="712" name="Tekstvak 6"/>
          <p:cNvSpPr/>
          <p:nvPr/>
        </p:nvSpPr>
        <p:spPr>
          <a:xfrm>
            <a:off x="457200" y="5875200"/>
            <a:ext cx="579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56667"/>
                </a:solidFill>
                <a:latin typeface="Arial"/>
              </a:rPr>
              <a:t>ESC guideline: Thus the applicability of findings from clinical trials to elderly patients encountered in routine clinical practice may be questionable</a:t>
            </a:r>
            <a:r>
              <a:rPr b="0" lang="en-GB" sz="1600" spc="-1" strike="noStrike">
                <a:solidFill>
                  <a:srgbClr val="656667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13" name="Rechthoek 7"/>
          <p:cNvSpPr/>
          <p:nvPr/>
        </p:nvSpPr>
        <p:spPr>
          <a:xfrm>
            <a:off x="304920" y="5791320"/>
            <a:ext cx="5943600" cy="990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Elderly an other animal? Yes: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6320" y="173844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667"/>
                </a:solidFill>
                <a:latin typeface="Arial"/>
              </a:rPr>
              <a:t>Higher Bleeding Risk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66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Elevated anticoagulant and fibrinolytic system protein levels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More CKD, decreased clearance of medications 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More interactions among medications, and concurrent use of agents that increase bleeding risk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  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Higher Thrombotic Risk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Higher platelet activation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Higher on treatment platelet reactivity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56667"/>
                </a:solidFill>
                <a:latin typeface="Arial"/>
              </a:rPr>
              <a:t>Age-related changes to vascular endothelium, and impaired synthesis of and response to NO</a:t>
            </a: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17" name="Afbeelding 4" descr="images1.jpg"/>
          <p:cNvPicPr/>
          <p:nvPr/>
        </p:nvPicPr>
        <p:blipFill>
          <a:blip r:embed="rId1"/>
          <a:stretch/>
        </p:blipFill>
        <p:spPr>
          <a:xfrm>
            <a:off x="6781680" y="4648320"/>
            <a:ext cx="2362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Elderly an other animal? Yes: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20" name="Afbeelding 4" descr="images1.jpg"/>
          <p:cNvPicPr/>
          <p:nvPr/>
        </p:nvPicPr>
        <p:blipFill>
          <a:blip r:embed="rId1"/>
          <a:stretch/>
        </p:blipFill>
        <p:spPr>
          <a:xfrm>
            <a:off x="5105520" y="3657600"/>
            <a:ext cx="4038480" cy="28954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 txBox="1"/>
          <p:nvPr/>
        </p:nvSpPr>
        <p:spPr>
          <a:xfrm>
            <a:off x="444600" y="190512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56667"/>
                </a:solidFill>
                <a:latin typeface="Arial"/>
              </a:rPr>
              <a:t>They more often have CKD</a:t>
            </a:r>
            <a:endParaRPr b="1" lang="en-US" sz="4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56667"/>
                </a:solidFill>
                <a:latin typeface="Arial"/>
              </a:rPr>
              <a:t>They bleed more often</a:t>
            </a:r>
            <a:endParaRPr b="1" lang="en-US" sz="4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41360" y="642600"/>
            <a:ext cx="825480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They more often have CKD</a:t>
            </a:r>
            <a:br>
              <a:rPr sz="3000"/>
            </a:b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Fox et al 2010: CKD is Bad 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pic>
        <p:nvPicPr>
          <p:cNvPr id="723" name="Picture 5" descr=""/>
          <p:cNvPicPr/>
          <p:nvPr/>
        </p:nvPicPr>
        <p:blipFill>
          <a:blip r:embed="rId1"/>
          <a:stretch/>
        </p:blipFill>
        <p:spPr>
          <a:xfrm>
            <a:off x="1116000" y="2247840"/>
            <a:ext cx="6429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624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 more often bleed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redictors of Major Bleed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0" y="0"/>
          <a:ext cx="20574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4"/>
          <p:cNvSpPr/>
          <p:nvPr/>
        </p:nvSpPr>
        <p:spPr>
          <a:xfrm>
            <a:off x="812880" y="740880"/>
            <a:ext cx="764208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240" rIns="165240" tIns="155520" bIns="155520" anchor="ctr" anchorCtr="1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Variable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p value</a:t>
            </a:r>
            <a:r>
              <a:rPr b="0" lang="en-US" sz="2000" spc="-1" strike="noStrike">
                <a:solidFill>
                  <a:srgbClr val="eaec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c5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Patient factors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Age (per 10 yrs)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1.28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Female sex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1.43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 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History of bleeding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2.83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History of renal insufficiency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1.48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0.0004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Medications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Diuretics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1.69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GPI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1.93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Lytics and GPI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2.38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IV inotropes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2.05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&lt;0.0001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cedures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C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.6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ight heart c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2.48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28" name="Line 5"/>
          <p:cNvSpPr/>
          <p:nvPr/>
        </p:nvSpPr>
        <p:spPr>
          <a:xfrm>
            <a:off x="685800" y="1279440"/>
            <a:ext cx="666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685800" y="3176640"/>
            <a:ext cx="666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0" name="Line 7"/>
          <p:cNvSpPr/>
          <p:nvPr/>
        </p:nvSpPr>
        <p:spPr>
          <a:xfrm>
            <a:off x="685800" y="5234040"/>
            <a:ext cx="666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5040" y="6515280"/>
            <a:ext cx="42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656667"/>
                </a:solidFill>
                <a:latin typeface="Arial"/>
              </a:rPr>
              <a:t>-- Moscucci Eur Heart J  2003;24:1815–1823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6:08:11Z</dcterms:created>
  <dc:creator>k.qaderdan</dc:creator>
  <dc:description/>
  <dc:language>en-US</dc:language>
  <cp:lastModifiedBy>berg03</cp:lastModifiedBy>
  <dcterms:modified xsi:type="dcterms:W3CDTF">2013-04-26T17:16:31Z</dcterms:modified>
  <cp:revision>100</cp:revision>
  <dc:subject/>
  <dc:title>Dia 1</dc:title>
</cp:coreProperties>
</file>